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2195-7BB9-4E2C-9C8C-4DFD11E0A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31A4-5EE5-4153-9510-E69AC647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C697-5D44-43C3-9F98-4A56AFBD7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D9D2-EE6A-4F7E-9DDE-DE41A6204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5536-F60A-43C3-AF5E-627AE8B3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CFF1-3F34-444A-831E-5495F085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29BF-C0FA-4435-BC8D-01AA09E9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188B-9526-48FD-8D99-421D4D37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590A-76B8-4526-9B6E-303390A1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5EF7-92BB-40A1-B3EC-45A4962A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0413-2D9D-4A38-9CFD-05416503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BE06-D9D8-4AE3-979D-09BE847B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6EBD-2510-4D94-B825-C14E6A786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PROBLEME DE STATIQUE 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AVEC FROTT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187280"/>
            <a:ext cx="9144000" cy="0"/>
          </a:xfrm>
          <a:prstGeom prst="line">
            <a:avLst/>
          </a:prstGeom>
          <a:ln w="127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11320"/>
            <a:ext cx="266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 Black"/>
              </a:rPr>
              <a:t>S. RAVAUT Lycée DURZY Villemandeu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Logo%20durzy%20rond" descr=""/>
          <p:cNvPicPr/>
          <p:nvPr/>
        </p:nvPicPr>
        <p:blipFill>
          <a:blip r:embed="rId3"/>
          <a:stretch/>
        </p:blipFill>
        <p:spPr>
          <a:xfrm>
            <a:off x="7848720" y="-76320"/>
            <a:ext cx="1143000" cy="1131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" Target="slide32.xml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295280"/>
            <a:ext cx="8153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SOLIDE SUR UN PLAN HORIZO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8682120" y="655308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143000" y="3200400"/>
            <a:ext cx="5638680" cy="2514600"/>
            <a:chOff x="1143000" y="3200400"/>
            <a:chExt cx="5638680" cy="2514600"/>
          </a:xfrm>
        </p:grpSpPr>
        <p:grpSp>
          <p:nvGrpSpPr>
            <p:cNvPr id="49" name=""/>
            <p:cNvGrpSpPr/>
            <p:nvPr/>
          </p:nvGrpSpPr>
          <p:grpSpPr>
            <a:xfrm>
              <a:off x="1143000" y="5105520"/>
              <a:ext cx="5638680" cy="609480"/>
              <a:chOff x="1143000" y="5105520"/>
              <a:chExt cx="5638680" cy="609480"/>
            </a:xfrm>
          </p:grpSpPr>
          <p:sp>
            <p:nvSpPr>
              <p:cNvPr id="50" name=""/>
              <p:cNvSpPr/>
              <p:nvPr/>
            </p:nvSpPr>
            <p:spPr>
              <a:xfrm>
                <a:off x="1143000" y="5105520"/>
                <a:ext cx="5638680" cy="609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143000" y="5105520"/>
                <a:ext cx="56386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2209680" y="3200400"/>
              <a:ext cx="3429000" cy="190512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6172200" y="2286000"/>
            <a:ext cx="1905120" cy="533520"/>
          </a:xfrm>
          <a:prstGeom prst="wedgeRectCallout">
            <a:avLst>
              <a:gd name="adj1" fmla="val -77250"/>
              <a:gd name="adj2" fmla="val 150000"/>
            </a:avLst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id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4038480"/>
            <a:ext cx="2971800" cy="533520"/>
          </a:xfrm>
          <a:prstGeom prst="wedgeRectCallout">
            <a:avLst>
              <a:gd name="adj1" fmla="val -29379"/>
              <a:gd name="adj2" fmla="val 147620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plan horizontal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1981080"/>
            <a:ext cx="5715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ON ISOLE LE SOLIDE 1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327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22096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bservons sur la figure ce qui se pass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211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6884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100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638680" y="4114800"/>
            <a:ext cx="50328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3679560" y="2761200"/>
            <a:ext cx="410400" cy="2326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211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338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22096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bservons sur la figure ce qui se pass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211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6884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4100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638680" y="4114800"/>
            <a:ext cx="57636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3631320" y="2769120"/>
            <a:ext cx="491040" cy="2310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211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349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22096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bservons sur la figure ce qui se pass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211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76884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4100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638680" y="4114800"/>
            <a:ext cx="64800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 flipV="1">
            <a:off x="3584520" y="2782800"/>
            <a:ext cx="571680" cy="2292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11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360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22096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bservons sur la figure ce qui se pass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211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6884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100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638680" y="4114800"/>
            <a:ext cx="71928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3543120" y="2801520"/>
            <a:ext cx="650880" cy="227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211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371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22096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bservons sur la figure ce qui se pass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9211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76884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4100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638680" y="4114800"/>
            <a:ext cx="79236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3486240" y="2812320"/>
            <a:ext cx="730080" cy="2246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211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382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bservons sur la figure ce qui se pass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2284560" y="2812320"/>
            <a:ext cx="4220640" cy="3615480"/>
            <a:chOff x="2284560" y="2812320"/>
            <a:chExt cx="4220640" cy="3615480"/>
          </a:xfrm>
        </p:grpSpPr>
        <p:sp>
          <p:nvSpPr>
            <p:cNvPr id="386" name=""/>
            <p:cNvSpPr/>
            <p:nvPr/>
          </p:nvSpPr>
          <p:spPr>
            <a:xfrm>
              <a:off x="2284560" y="3200400"/>
              <a:ext cx="3428640" cy="190512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995640" y="4038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843360" y="4114800"/>
              <a:ext cx="30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484600" y="4114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713200" y="4114800"/>
              <a:ext cx="7920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3560760" y="2812320"/>
              <a:ext cx="730080" cy="2246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95640" y="4114800"/>
              <a:ext cx="0" cy="23130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394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236232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bservons sur la figure ce qui se pass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07340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2112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2720" y="4114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91320" y="4114800"/>
            <a:ext cx="79200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3645000" y="2812320"/>
            <a:ext cx="730080" cy="2246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07340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405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bservons sur la figure ce qui se pass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2435400" y="2812320"/>
            <a:ext cx="4221000" cy="3615480"/>
            <a:chOff x="2435400" y="2812320"/>
            <a:chExt cx="4221000" cy="3615480"/>
          </a:xfrm>
        </p:grpSpPr>
        <p:sp>
          <p:nvSpPr>
            <p:cNvPr id="409" name=""/>
            <p:cNvSpPr/>
            <p:nvPr/>
          </p:nvSpPr>
          <p:spPr>
            <a:xfrm>
              <a:off x="2435400" y="3200400"/>
              <a:ext cx="3429000" cy="190512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46480" y="4038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94200" y="41148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635800" y="4114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864400" y="4114800"/>
              <a:ext cx="7920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3718080" y="2812320"/>
              <a:ext cx="730080" cy="2246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46480" y="4114800"/>
              <a:ext cx="0" cy="23130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417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251460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bservons sur la figure ce qui se pass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22604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07340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715000" y="4114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943600" y="4114800"/>
            <a:ext cx="79200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3797280" y="2801160"/>
            <a:ext cx="730080" cy="2246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22604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428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bservons sur la figure ce qui se pass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2590920" y="2801160"/>
            <a:ext cx="4221000" cy="3626640"/>
            <a:chOff x="2590920" y="2801160"/>
            <a:chExt cx="4221000" cy="3626640"/>
          </a:xfrm>
        </p:grpSpPr>
        <p:sp>
          <p:nvSpPr>
            <p:cNvPr id="432" name=""/>
            <p:cNvSpPr/>
            <p:nvPr/>
          </p:nvSpPr>
          <p:spPr>
            <a:xfrm>
              <a:off x="2590920" y="3200400"/>
              <a:ext cx="3429000" cy="190512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02360" y="4038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149720" y="41148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91320" y="4114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019920" y="4114800"/>
              <a:ext cx="7920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flipV="1">
              <a:off x="3873600" y="2801160"/>
              <a:ext cx="730080" cy="2246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302360" y="4114800"/>
              <a:ext cx="0" cy="23130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8682120" y="655308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722160" y="6553080"/>
            <a:ext cx="457200" cy="304920"/>
          </a:xfrm>
          <a:custGeom>
            <a:avLst/>
            <a:gdLst>
              <a:gd name="textAreaLeft" fmla="*/ 47520 w 457200"/>
              <a:gd name="textAreaRight" fmla="*/ 409680 w 457200"/>
              <a:gd name="textAreaTop" fmla="*/ 47520 h 304920"/>
              <a:gd name="textAreaBottom" fmla="*/ 25740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9000" y="3375"/>
                </a:lnTo>
                <a:lnTo>
                  <a:pt x="3375" y="3375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9000" y="18225"/>
                </a:lnTo>
                <a:lnTo>
                  <a:pt x="29000" y="3375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3375" y="18225"/>
                </a:lnTo>
                <a:lnTo>
                  <a:pt x="29000" y="18225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3375" y="3375"/>
                </a:lnTo>
                <a:lnTo>
                  <a:pt x="3375" y="18225"/>
                </a:lnTo>
                <a:close/>
              </a:path>
              <a:path fill="darken" w="32375" h="21600">
                <a:moveTo>
                  <a:pt x="10653" y="10800"/>
                </a:moveTo>
                <a:lnTo>
                  <a:pt x="21722" y="5266"/>
                </a:lnTo>
                <a:lnTo>
                  <a:pt x="21722" y="1633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096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5943600"/>
            <a:ext cx="4419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Il est soumis à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81080"/>
            <a:ext cx="5715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ON ISOLE LE SOLIDE 1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440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26668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bservons sur la figure ce qui se pass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3783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22604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8672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95880" y="4114800"/>
            <a:ext cx="79236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3944880" y="2801160"/>
            <a:ext cx="730080" cy="2246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3783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451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bservons sur la figure ce qui se pass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2741760" y="2801160"/>
            <a:ext cx="4220640" cy="3626640"/>
            <a:chOff x="2741760" y="2801160"/>
            <a:chExt cx="4220640" cy="3626640"/>
          </a:xfrm>
        </p:grpSpPr>
        <p:sp>
          <p:nvSpPr>
            <p:cNvPr id="455" name=""/>
            <p:cNvSpPr/>
            <p:nvPr/>
          </p:nvSpPr>
          <p:spPr>
            <a:xfrm>
              <a:off x="2741760" y="3200400"/>
              <a:ext cx="3428640" cy="190512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452840" y="4038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300560" y="4114800"/>
              <a:ext cx="30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941800" y="4114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0400" y="4114800"/>
              <a:ext cx="7920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 flipV="1">
              <a:off x="4019400" y="2801160"/>
              <a:ext cx="730080" cy="2246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452840" y="4114800"/>
              <a:ext cx="0" cy="23130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463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bservons sur la figure ce qui se pass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2819520" y="2813760"/>
            <a:ext cx="4221000" cy="3614040"/>
            <a:chOff x="2819520" y="2813760"/>
            <a:chExt cx="4221000" cy="3614040"/>
          </a:xfrm>
        </p:grpSpPr>
        <p:sp>
          <p:nvSpPr>
            <p:cNvPr id="467" name=""/>
            <p:cNvSpPr/>
            <p:nvPr/>
          </p:nvSpPr>
          <p:spPr>
            <a:xfrm>
              <a:off x="2819520" y="3200400"/>
              <a:ext cx="3429000" cy="190512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530600" y="4038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378320" y="41148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019920" y="4114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248520" y="4114800"/>
              <a:ext cx="7920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 flipV="1">
              <a:off x="4102200" y="2813760"/>
              <a:ext cx="730080" cy="2246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530600" y="4114800"/>
              <a:ext cx="0" cy="23130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475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bservons sur la figure ce qui se pass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95480" y="3198960"/>
            <a:ext cx="3429000" cy="190476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606920" y="4025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454640" y="4102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095880" y="4102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324480" y="4102200"/>
            <a:ext cx="79236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 flipV="1">
            <a:off x="4178520" y="2801160"/>
            <a:ext cx="730080" cy="2246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606920" y="41022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486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bservons sur la figure ce qui se pass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971800" y="3198960"/>
            <a:ext cx="3429000" cy="190476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683240" y="4022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30600" y="40989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72200" y="40989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400800" y="4098960"/>
            <a:ext cx="79200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 flipV="1">
            <a:off x="4257720" y="2801160"/>
            <a:ext cx="730080" cy="2246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683240" y="409896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497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bservons sur la figure ce qui se pass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048120" y="3198960"/>
            <a:ext cx="3429000" cy="190476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759200" y="4022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606920" y="40989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248520" y="40989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477120" y="4098960"/>
            <a:ext cx="79200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 flipV="1">
            <a:off x="4334040" y="2801160"/>
            <a:ext cx="730080" cy="2246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759200" y="409896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508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bservons sur la figure ce qui se pass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1240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8355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68324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3244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553080" y="4114800"/>
            <a:ext cx="79236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4407120" y="2812320"/>
            <a:ext cx="730080" cy="2246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8355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519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bservons sur la figure ce qui se pass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040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91184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75920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400800" y="4114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629400" y="4114800"/>
            <a:ext cx="79200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 flipV="1">
            <a:off x="4483080" y="2812320"/>
            <a:ext cx="730080" cy="2246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91184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530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327672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bservons sur la figure ce qui se pass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98780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83552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477120" y="4114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705720" y="4114800"/>
            <a:ext cx="79200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 flipV="1">
            <a:off x="4562640" y="2805840"/>
            <a:ext cx="730080" cy="2246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98780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>
            <a:hlinkClick r:id="" action="ppaction://hlinkshowjump?jump=nextslide"/>
          </p:cNvPr>
          <p:cNvSpPr/>
          <p:nvPr/>
        </p:nvSpPr>
        <p:spPr>
          <a:xfrm>
            <a:off x="8682120" y="655164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>
            <a:hlinkClick r:id="" action="ppaction://hlinkshowjump?jump=previousslide"/>
          </p:cNvPr>
          <p:cNvSpPr/>
          <p:nvPr/>
        </p:nvSpPr>
        <p:spPr>
          <a:xfrm>
            <a:off x="633240" y="6551640"/>
            <a:ext cx="457200" cy="304920"/>
          </a:xfrm>
          <a:custGeom>
            <a:avLst/>
            <a:gdLst>
              <a:gd name="textAreaLeft" fmla="*/ 60120 w 457200"/>
              <a:gd name="textAreaRight" fmla="*/ 397080 w 457200"/>
              <a:gd name="textAreaTop" fmla="*/ 60120 h 304920"/>
              <a:gd name="textAreaBottom" fmla="*/ 24480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100" y="4275"/>
                </a:lnTo>
                <a:lnTo>
                  <a:pt x="4275" y="4275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100" y="17325"/>
                </a:lnTo>
                <a:lnTo>
                  <a:pt x="28100" y="4275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275" y="17325"/>
                </a:lnTo>
                <a:lnTo>
                  <a:pt x="28100" y="17325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275" y="4275"/>
                </a:lnTo>
                <a:lnTo>
                  <a:pt x="4275" y="17325"/>
                </a:lnTo>
                <a:close/>
              </a:path>
              <a:path fill="darken" w="32375" h="21600">
                <a:moveTo>
                  <a:pt x="11324" y="10800"/>
                </a:moveTo>
                <a:lnTo>
                  <a:pt x="21051" y="5936"/>
                </a:lnTo>
                <a:lnTo>
                  <a:pt x="21051" y="1566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>
            <a:hlinkClick r:id="" action="ppaction://hlinkshowjump?jump=firstslide"/>
          </p:cNvPr>
          <p:cNvSpPr/>
          <p:nvPr/>
        </p:nvSpPr>
        <p:spPr>
          <a:xfrm>
            <a:off x="0" y="6551640"/>
            <a:ext cx="457200" cy="304920"/>
          </a:xfrm>
          <a:custGeom>
            <a:avLst/>
            <a:gdLst>
              <a:gd name="textAreaLeft" fmla="*/ 58680 w 457200"/>
              <a:gd name="textAreaRight" fmla="*/ 398520 w 45720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212" y="4163"/>
                </a:lnTo>
                <a:lnTo>
                  <a:pt x="4163" y="416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212" y="17437"/>
                </a:lnTo>
                <a:lnTo>
                  <a:pt x="28212" y="416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28212" y="1743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  <a:path fill="darken" w="32375" h="21600">
                <a:moveTo>
                  <a:pt x="13717" y="10800"/>
                </a:moveTo>
                <a:lnTo>
                  <a:pt x="21134" y="5853"/>
                </a:lnTo>
                <a:lnTo>
                  <a:pt x="21134" y="15747"/>
                </a:lnTo>
                <a:close/>
              </a:path>
              <a:path fill="darken" w="32375" h="21600">
                <a:moveTo>
                  <a:pt x="11240" y="5853"/>
                </a:moveTo>
                <a:lnTo>
                  <a:pt x="12414" y="5853"/>
                </a:lnTo>
                <a:lnTo>
                  <a:pt x="12414" y="15747"/>
                </a:lnTo>
                <a:lnTo>
                  <a:pt x="11240" y="15747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544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22096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n peut remarquer qu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9211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76884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4100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638680" y="4114800"/>
            <a:ext cx="79236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flipV="1">
            <a:off x="3492720" y="2805840"/>
            <a:ext cx="730080" cy="2246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211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1878120"/>
            <a:ext cx="86821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La force en B doit atteindre une certaine valeur pour permettre le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glissement 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de 1 par rapport à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2590920"/>
            <a:ext cx="868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Avant que cette valeur            ne soit atteinte, il y a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adhérence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 entre 0 et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>
            <a:hlinkClick r:id="" action="ppaction://hlinkshowjump?jump=nextslide"/>
          </p:cNvPr>
          <p:cNvSpPr/>
          <p:nvPr/>
        </p:nvSpPr>
        <p:spPr>
          <a:xfrm>
            <a:off x="8682120" y="655164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>
            <a:hlinkClick r:id="" action="ppaction://hlinkshowjump?jump=previousslide"/>
          </p:cNvPr>
          <p:cNvSpPr/>
          <p:nvPr/>
        </p:nvSpPr>
        <p:spPr>
          <a:xfrm>
            <a:off x="633240" y="6551640"/>
            <a:ext cx="457200" cy="304920"/>
          </a:xfrm>
          <a:custGeom>
            <a:avLst/>
            <a:gdLst>
              <a:gd name="textAreaLeft" fmla="*/ 60120 w 457200"/>
              <a:gd name="textAreaRight" fmla="*/ 397080 w 457200"/>
              <a:gd name="textAreaTop" fmla="*/ 60120 h 304920"/>
              <a:gd name="textAreaBottom" fmla="*/ 24480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100" y="4275"/>
                </a:lnTo>
                <a:lnTo>
                  <a:pt x="4275" y="4275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100" y="17325"/>
                </a:lnTo>
                <a:lnTo>
                  <a:pt x="28100" y="4275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275" y="17325"/>
                </a:lnTo>
                <a:lnTo>
                  <a:pt x="28100" y="17325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275" y="4275"/>
                </a:lnTo>
                <a:lnTo>
                  <a:pt x="4275" y="17325"/>
                </a:lnTo>
                <a:close/>
              </a:path>
              <a:path fill="darken" w="32375" h="21600">
                <a:moveTo>
                  <a:pt x="11324" y="10800"/>
                </a:moveTo>
                <a:lnTo>
                  <a:pt x="21051" y="5936"/>
                </a:lnTo>
                <a:lnTo>
                  <a:pt x="21051" y="1566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>
            <a:hlinkClick r:id="" action="ppaction://hlinkshowjump?jump=firstslide"/>
          </p:cNvPr>
          <p:cNvSpPr/>
          <p:nvPr/>
        </p:nvSpPr>
        <p:spPr>
          <a:xfrm>
            <a:off x="0" y="6551640"/>
            <a:ext cx="457200" cy="304920"/>
          </a:xfrm>
          <a:custGeom>
            <a:avLst/>
            <a:gdLst>
              <a:gd name="textAreaLeft" fmla="*/ 58680 w 457200"/>
              <a:gd name="textAreaRight" fmla="*/ 398520 w 45720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212" y="4163"/>
                </a:lnTo>
                <a:lnTo>
                  <a:pt x="4163" y="416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212" y="17437"/>
                </a:lnTo>
                <a:lnTo>
                  <a:pt x="28212" y="416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28212" y="1743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  <a:path fill="darken" w="32375" h="21600">
                <a:moveTo>
                  <a:pt x="13717" y="10800"/>
                </a:moveTo>
                <a:lnTo>
                  <a:pt x="21134" y="5853"/>
                </a:lnTo>
                <a:lnTo>
                  <a:pt x="21134" y="15747"/>
                </a:lnTo>
                <a:close/>
              </a:path>
              <a:path fill="darken" w="32375" h="21600">
                <a:moveTo>
                  <a:pt x="11240" y="5853"/>
                </a:moveTo>
                <a:lnTo>
                  <a:pt x="12414" y="5853"/>
                </a:lnTo>
                <a:lnTo>
                  <a:pt x="12414" y="15747"/>
                </a:lnTo>
                <a:lnTo>
                  <a:pt x="11240" y="15747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322880" y="5784840"/>
            <a:ext cx="39560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La limite entre l’adhérence et le glissement est appelée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équilibre stric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6019920" y="3581280"/>
            <a:ext cx="581040" cy="457200"/>
            <a:chOff x="6019920" y="3581280"/>
            <a:chExt cx="581040" cy="457200"/>
          </a:xfrm>
        </p:grpSpPr>
        <p:grpSp>
          <p:nvGrpSpPr>
            <p:cNvPr id="561" name=""/>
            <p:cNvGrpSpPr/>
            <p:nvPr/>
          </p:nvGrpSpPr>
          <p:grpSpPr>
            <a:xfrm>
              <a:off x="6019920" y="3581280"/>
              <a:ext cx="581040" cy="457200"/>
              <a:chOff x="6019920" y="3581280"/>
              <a:chExt cx="581040" cy="457200"/>
            </a:xfrm>
          </p:grpSpPr>
          <p:sp>
            <p:nvSpPr>
              <p:cNvPr id="562" name=""/>
              <p:cNvSpPr/>
              <p:nvPr/>
            </p:nvSpPr>
            <p:spPr>
              <a:xfrm>
                <a:off x="6019920" y="3581280"/>
                <a:ext cx="5810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6600"/>
                    </a:solidFill>
                    <a:latin typeface="Comic Sans MS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064920" y="3581280"/>
                <a:ext cx="3574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6019920" y="3581280"/>
              <a:ext cx="31680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096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4209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Une action mécanique surfacique du plan 0 sur le so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244600" y="4495680"/>
            <a:ext cx="3353040" cy="609840"/>
            <a:chOff x="2244600" y="4495680"/>
            <a:chExt cx="3353040" cy="609840"/>
          </a:xfrm>
        </p:grpSpPr>
        <p:sp>
          <p:nvSpPr>
            <p:cNvPr id="64" name=""/>
            <p:cNvSpPr/>
            <p:nvPr/>
          </p:nvSpPr>
          <p:spPr>
            <a:xfrm flipV="1">
              <a:off x="224460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239724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254952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270180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285444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300672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315900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331164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346392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361620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376884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392112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407340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2604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437832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453060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468324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483552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498780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514044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529272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544500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559764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447920" y="18781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que l’on modélisera par une force au poin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566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22096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n peut remarquer également qu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9211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76884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4100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638680" y="4114800"/>
            <a:ext cx="79236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3492720" y="2805840"/>
            <a:ext cx="730080" cy="2246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9211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0" y="1878120"/>
            <a:ext cx="86821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Les trois forces restent concourantes. Pour cela, le point d’application A s’est déplacé (dans notre cas vers la droit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>
            <a:hlinkClick r:id="" action="ppaction://hlinkshowjump?jump=nextslide"/>
          </p:cNvPr>
          <p:cNvSpPr/>
          <p:nvPr/>
        </p:nvSpPr>
        <p:spPr>
          <a:xfrm>
            <a:off x="8682120" y="655164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>
            <a:hlinkClick r:id="" action="ppaction://hlinkshowjump?jump=previousslide"/>
          </p:cNvPr>
          <p:cNvSpPr/>
          <p:nvPr/>
        </p:nvSpPr>
        <p:spPr>
          <a:xfrm>
            <a:off x="633240" y="6551640"/>
            <a:ext cx="457200" cy="304920"/>
          </a:xfrm>
          <a:custGeom>
            <a:avLst/>
            <a:gdLst>
              <a:gd name="textAreaLeft" fmla="*/ 60120 w 457200"/>
              <a:gd name="textAreaRight" fmla="*/ 397080 w 457200"/>
              <a:gd name="textAreaTop" fmla="*/ 60120 h 304920"/>
              <a:gd name="textAreaBottom" fmla="*/ 24480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100" y="4275"/>
                </a:lnTo>
                <a:lnTo>
                  <a:pt x="4275" y="4275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100" y="17325"/>
                </a:lnTo>
                <a:lnTo>
                  <a:pt x="28100" y="4275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275" y="17325"/>
                </a:lnTo>
                <a:lnTo>
                  <a:pt x="28100" y="17325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275" y="4275"/>
                </a:lnTo>
                <a:lnTo>
                  <a:pt x="4275" y="17325"/>
                </a:lnTo>
                <a:close/>
              </a:path>
              <a:path fill="darken" w="32375" h="21600">
                <a:moveTo>
                  <a:pt x="11324" y="10800"/>
                </a:moveTo>
                <a:lnTo>
                  <a:pt x="21051" y="5936"/>
                </a:lnTo>
                <a:lnTo>
                  <a:pt x="21051" y="1566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>
            <a:hlinkClick r:id="" action="ppaction://hlinkshowjump?jump=firstslide"/>
          </p:cNvPr>
          <p:cNvSpPr/>
          <p:nvPr/>
        </p:nvSpPr>
        <p:spPr>
          <a:xfrm>
            <a:off x="0" y="6551640"/>
            <a:ext cx="457200" cy="304920"/>
          </a:xfrm>
          <a:custGeom>
            <a:avLst/>
            <a:gdLst>
              <a:gd name="textAreaLeft" fmla="*/ 58680 w 457200"/>
              <a:gd name="textAreaRight" fmla="*/ 398520 w 45720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212" y="4163"/>
                </a:lnTo>
                <a:lnTo>
                  <a:pt x="4163" y="416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212" y="17437"/>
                </a:lnTo>
                <a:lnTo>
                  <a:pt x="28212" y="416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28212" y="1743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  <a:path fill="darken" w="32375" h="21600">
                <a:moveTo>
                  <a:pt x="13717" y="10800"/>
                </a:moveTo>
                <a:lnTo>
                  <a:pt x="21134" y="5853"/>
                </a:lnTo>
                <a:lnTo>
                  <a:pt x="21134" y="15747"/>
                </a:lnTo>
                <a:close/>
              </a:path>
              <a:path fill="darken" w="32375" h="21600">
                <a:moveTo>
                  <a:pt x="11240" y="5853"/>
                </a:moveTo>
                <a:lnTo>
                  <a:pt x="12414" y="5853"/>
                </a:lnTo>
                <a:lnTo>
                  <a:pt x="12414" y="15747"/>
                </a:lnTo>
                <a:lnTo>
                  <a:pt x="11240" y="15747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791400" y="2940120"/>
            <a:ext cx="2209680" cy="2585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La force en A de 0 sur 1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 ’oppose au glissement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éventuel de 1 par rapport à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3768840" y="2590920"/>
            <a:ext cx="838080" cy="457200"/>
            <a:chOff x="3768840" y="2590920"/>
            <a:chExt cx="838080" cy="457200"/>
          </a:xfrm>
        </p:grpSpPr>
        <p:sp>
          <p:nvSpPr>
            <p:cNvPr id="582" name=""/>
            <p:cNvSpPr/>
            <p:nvPr/>
          </p:nvSpPr>
          <p:spPr>
            <a:xfrm>
              <a:off x="3768840" y="2590920"/>
              <a:ext cx="838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0/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32920" y="2590920"/>
              <a:ext cx="515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4349880" y="46530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586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>
            <a:off x="22096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n peut remarquer enfin qu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211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76884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4100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638680" y="4114800"/>
            <a:ext cx="792360" cy="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 flipV="1">
            <a:off x="3492720" y="2805840"/>
            <a:ext cx="730080" cy="2246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9211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0" y="1828800"/>
            <a:ext cx="89154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L’angle d’inclinaison de la force en A définit le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facteur de frottemen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 (noté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µ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) entre 0 et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>
            <a:hlinkClick r:id="" action="ppaction://hlinkshowjump?jump=nextslide"/>
          </p:cNvPr>
          <p:cNvSpPr/>
          <p:nvPr/>
        </p:nvSpPr>
        <p:spPr>
          <a:xfrm>
            <a:off x="8682120" y="655164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>
            <a:hlinkClick r:id="" action="ppaction://hlinkshowjump?jump=previousslide"/>
          </p:cNvPr>
          <p:cNvSpPr/>
          <p:nvPr/>
        </p:nvSpPr>
        <p:spPr>
          <a:xfrm>
            <a:off x="633240" y="6551640"/>
            <a:ext cx="457200" cy="304920"/>
          </a:xfrm>
          <a:custGeom>
            <a:avLst/>
            <a:gdLst>
              <a:gd name="textAreaLeft" fmla="*/ 60120 w 457200"/>
              <a:gd name="textAreaRight" fmla="*/ 397080 w 457200"/>
              <a:gd name="textAreaTop" fmla="*/ 60120 h 304920"/>
              <a:gd name="textAreaBottom" fmla="*/ 24480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100" y="4275"/>
                </a:lnTo>
                <a:lnTo>
                  <a:pt x="4275" y="4275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100" y="17325"/>
                </a:lnTo>
                <a:lnTo>
                  <a:pt x="28100" y="4275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275" y="17325"/>
                </a:lnTo>
                <a:lnTo>
                  <a:pt x="28100" y="17325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275" y="4275"/>
                </a:lnTo>
                <a:lnTo>
                  <a:pt x="4275" y="17325"/>
                </a:lnTo>
                <a:close/>
              </a:path>
              <a:path fill="darken" w="32375" h="21600">
                <a:moveTo>
                  <a:pt x="11324" y="10800"/>
                </a:moveTo>
                <a:lnTo>
                  <a:pt x="21051" y="5936"/>
                </a:lnTo>
                <a:lnTo>
                  <a:pt x="21051" y="1566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>
            <a:hlinkClick r:id="" action="ppaction://hlinkshowjump?jump=firstslide"/>
          </p:cNvPr>
          <p:cNvSpPr/>
          <p:nvPr/>
        </p:nvSpPr>
        <p:spPr>
          <a:xfrm>
            <a:off x="0" y="6551640"/>
            <a:ext cx="457200" cy="304920"/>
          </a:xfrm>
          <a:custGeom>
            <a:avLst/>
            <a:gdLst>
              <a:gd name="textAreaLeft" fmla="*/ 58680 w 457200"/>
              <a:gd name="textAreaRight" fmla="*/ 398520 w 45720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212" y="4163"/>
                </a:lnTo>
                <a:lnTo>
                  <a:pt x="4163" y="416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212" y="17437"/>
                </a:lnTo>
                <a:lnTo>
                  <a:pt x="28212" y="416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28212" y="1743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  <a:path fill="darken" w="32375" h="21600">
                <a:moveTo>
                  <a:pt x="13717" y="10800"/>
                </a:moveTo>
                <a:lnTo>
                  <a:pt x="21134" y="5853"/>
                </a:lnTo>
                <a:lnTo>
                  <a:pt x="21134" y="15747"/>
                </a:lnTo>
                <a:close/>
              </a:path>
              <a:path fill="darken" w="32375" h="21600">
                <a:moveTo>
                  <a:pt x="11240" y="5853"/>
                </a:moveTo>
                <a:lnTo>
                  <a:pt x="12414" y="5853"/>
                </a:lnTo>
                <a:lnTo>
                  <a:pt x="12414" y="15747"/>
                </a:lnTo>
                <a:lnTo>
                  <a:pt x="11240" y="15747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781680" y="2590920"/>
            <a:ext cx="235764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µ = tan </a:t>
            </a:r>
            <a:r>
              <a:rPr b="1" lang="en-US" sz="2000" spc="-1" strike="noStrike">
                <a:solidFill>
                  <a:srgbClr val="990033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2666880" y="2590920"/>
            <a:ext cx="838440" cy="457200"/>
            <a:chOff x="2666880" y="2590920"/>
            <a:chExt cx="838440" cy="457200"/>
          </a:xfrm>
        </p:grpSpPr>
        <p:sp>
          <p:nvSpPr>
            <p:cNvPr id="602" name=""/>
            <p:cNvSpPr/>
            <p:nvPr/>
          </p:nvSpPr>
          <p:spPr>
            <a:xfrm>
              <a:off x="2666880" y="2590920"/>
              <a:ext cx="838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0/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730960" y="2590920"/>
              <a:ext cx="5162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4172040" y="5159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781680" y="3971880"/>
            <a:ext cx="2357640" cy="2209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µ dépend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- des matériaux en contac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- de la rugosité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- de la lubrifi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3241800" y="3797280"/>
            <a:ext cx="1978920" cy="126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29321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293216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757680" y="3368520"/>
            <a:ext cx="53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962520" y="2155680"/>
            <a:ext cx="1817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Normale au cont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4238640" y="2133720"/>
            <a:ext cx="127080" cy="2936520"/>
            <a:chOff x="4238640" y="2133720"/>
            <a:chExt cx="127080" cy="2936520"/>
          </a:xfrm>
        </p:grpSpPr>
        <p:sp>
          <p:nvSpPr>
            <p:cNvPr id="610" name=""/>
            <p:cNvSpPr/>
            <p:nvPr/>
          </p:nvSpPr>
          <p:spPr>
            <a:xfrm flipV="1">
              <a:off x="4238640" y="2133720"/>
              <a:ext cx="0" cy="293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246200" y="4821480"/>
              <a:ext cx="119520" cy="2487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 flipV="1">
            <a:off x="4238640" y="274284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3422160" y="5068800"/>
            <a:ext cx="792360" cy="0"/>
          </a:xfrm>
          <a:prstGeom prst="line">
            <a:avLst/>
          </a:prstGeom>
          <a:ln w="57240">
            <a:solidFill>
              <a:srgbClr val="ffff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251240" y="3616200"/>
            <a:ext cx="68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1" lang="en-US" sz="2400" spc="-1" strike="noStrike" baseline="-25000">
                <a:solidFill>
                  <a:srgbClr val="0066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164040" y="4530600"/>
            <a:ext cx="68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786720" y="2590920"/>
            <a:ext cx="2357280" cy="1380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99"/>
                </a:solidFill>
                <a:latin typeface="Arial"/>
              </a:rPr>
              <a:t>X</a:t>
            </a:r>
            <a:r>
              <a:rPr b="1" lang="fr-FR" sz="2400" spc="-1" strike="noStrike" baseline="-25000">
                <a:solidFill>
                  <a:srgbClr val="ffff99"/>
                </a:solidFill>
                <a:latin typeface="Arial"/>
              </a:rPr>
              <a:t>A</a:t>
            </a:r>
            <a:r>
              <a:rPr b="1" lang="fr-FR" sz="2000" spc="-1" strike="noStrike">
                <a:solidFill>
                  <a:srgbClr val="990033"/>
                </a:solidFill>
                <a:latin typeface="Comic Sans MS"/>
              </a:rPr>
              <a:t> = tan </a:t>
            </a:r>
            <a:r>
              <a:rPr b="1" lang="fr-FR" sz="2000" spc="-1" strike="noStrike">
                <a:solidFill>
                  <a:srgbClr val="990033"/>
                </a:solidFill>
                <a:latin typeface="Symbol"/>
                <a:ea typeface="Symbol"/>
              </a:rPr>
              <a:t></a:t>
            </a:r>
            <a:r>
              <a:rPr b="1" lang="fr-FR" sz="20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1" lang="fr-FR" sz="2400" spc="-1" strike="noStrike" baseline="-25000">
                <a:solidFill>
                  <a:srgbClr val="0066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99"/>
                </a:solidFill>
                <a:latin typeface="Arial"/>
              </a:rPr>
              <a:t>X</a:t>
            </a:r>
            <a:r>
              <a:rPr b="1" lang="fr-FR" sz="2400" spc="-1" strike="noStrike" baseline="-25000">
                <a:solidFill>
                  <a:srgbClr val="ffff99"/>
                </a:solidFill>
                <a:latin typeface="Arial"/>
              </a:rPr>
              <a:t>A</a:t>
            </a:r>
            <a:r>
              <a:rPr b="1" lang="fr-FR" sz="2000" spc="-1" strike="noStrike">
                <a:solidFill>
                  <a:srgbClr val="990033"/>
                </a:solidFill>
                <a:latin typeface="Comic Sans MS"/>
              </a:rPr>
              <a:t> =    µ   </a:t>
            </a:r>
            <a:r>
              <a:rPr b="1" lang="fr-FR" sz="24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1" lang="fr-FR" sz="2400" spc="-1" strike="noStrike" baseline="-25000">
                <a:solidFill>
                  <a:srgbClr val="0066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0" y="1420920"/>
            <a:ext cx="767088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Regardons à nouveau la démonstration en faisant apparaître le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ône de frottemen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619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22096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211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76884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2112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4100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3921120" y="2743200"/>
            <a:ext cx="0" cy="2362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2753640" y="2255760"/>
            <a:ext cx="2355480" cy="2849760"/>
            <a:chOff x="2753640" y="2255760"/>
            <a:chExt cx="2355480" cy="2849760"/>
          </a:xfrm>
        </p:grpSpPr>
        <p:sp>
          <p:nvSpPr>
            <p:cNvPr id="628" name=""/>
            <p:cNvSpPr/>
            <p:nvPr/>
          </p:nvSpPr>
          <p:spPr>
            <a:xfrm>
              <a:off x="3094200" y="2590920"/>
              <a:ext cx="83808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3931920" y="2590920"/>
              <a:ext cx="83772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094200" y="2408400"/>
              <a:ext cx="1676160" cy="3348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397320" y="3200400"/>
              <a:ext cx="534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2753280" y="3657600"/>
              <a:ext cx="235548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3943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394311"/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3932280" y="2255760"/>
              <a:ext cx="0" cy="2849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39211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636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22096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9211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76884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100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638680" y="4114800"/>
            <a:ext cx="28728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 flipV="1">
            <a:off x="3870360" y="2743920"/>
            <a:ext cx="82800" cy="236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9211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1420920"/>
            <a:ext cx="767088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Regardons à nouveau la démonstration en faisant apparaître le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ône de frottemen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2801520" y="2255760"/>
            <a:ext cx="2357280" cy="2849760"/>
            <a:chOff x="2801520" y="2255760"/>
            <a:chExt cx="2357280" cy="2849760"/>
          </a:xfrm>
        </p:grpSpPr>
        <p:sp>
          <p:nvSpPr>
            <p:cNvPr id="647" name=""/>
            <p:cNvSpPr/>
            <p:nvPr/>
          </p:nvSpPr>
          <p:spPr>
            <a:xfrm>
              <a:off x="3141720" y="2590920"/>
              <a:ext cx="83844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3980160" y="2590920"/>
              <a:ext cx="83808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141720" y="2408400"/>
              <a:ext cx="1676520" cy="3348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445200" y="3200400"/>
              <a:ext cx="534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2801520" y="3657600"/>
              <a:ext cx="235728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3943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394311"/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3980160" y="2255760"/>
              <a:ext cx="0" cy="2849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0" y="1420920"/>
            <a:ext cx="767088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Regardons à nouveau la démonstration en faisant apparaître le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ône de frottemen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655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22096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9211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6884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4100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638680" y="4114800"/>
            <a:ext cx="36036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3773880" y="2749680"/>
            <a:ext cx="246960" cy="2349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9211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2847240" y="2255760"/>
            <a:ext cx="2355480" cy="2849760"/>
            <a:chOff x="2847240" y="2255760"/>
            <a:chExt cx="2355480" cy="2849760"/>
          </a:xfrm>
        </p:grpSpPr>
        <p:sp>
          <p:nvSpPr>
            <p:cNvPr id="665" name=""/>
            <p:cNvSpPr/>
            <p:nvPr/>
          </p:nvSpPr>
          <p:spPr>
            <a:xfrm>
              <a:off x="3187800" y="2590920"/>
              <a:ext cx="83808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4025520" y="2590920"/>
              <a:ext cx="83772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187800" y="2408400"/>
              <a:ext cx="1676160" cy="3348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490920" y="3200400"/>
              <a:ext cx="534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2846880" y="3657600"/>
              <a:ext cx="235548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3943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394311"/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4025880" y="2255760"/>
              <a:ext cx="0" cy="2849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0" y="1420920"/>
            <a:ext cx="767088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Regardons à nouveau la démonstration en faisant apparaître le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ône de frottemen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673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22096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9211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76884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4100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638680" y="4114800"/>
            <a:ext cx="43200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 flipV="1">
            <a:off x="3726360" y="2754720"/>
            <a:ext cx="329040" cy="2339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9211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2882160" y="2255760"/>
            <a:ext cx="2355480" cy="2849760"/>
            <a:chOff x="2882160" y="2255760"/>
            <a:chExt cx="2355480" cy="2849760"/>
          </a:xfrm>
        </p:grpSpPr>
        <p:sp>
          <p:nvSpPr>
            <p:cNvPr id="683" name=""/>
            <p:cNvSpPr/>
            <p:nvPr/>
          </p:nvSpPr>
          <p:spPr>
            <a:xfrm>
              <a:off x="3222720" y="2590920"/>
              <a:ext cx="83808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4060440" y="2590920"/>
              <a:ext cx="83772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22720" y="2408400"/>
              <a:ext cx="1676160" cy="3348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5840" y="3200400"/>
              <a:ext cx="534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2881800" y="3657600"/>
              <a:ext cx="235548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3943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394311"/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4060800" y="2255760"/>
              <a:ext cx="0" cy="2849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0" y="1420920"/>
            <a:ext cx="767088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Regardons à nouveau la démonstration en faisant apparaître le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ône de frottemen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691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22096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9211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76884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4100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638680" y="4114800"/>
            <a:ext cx="50328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3679560" y="2761200"/>
            <a:ext cx="410400" cy="2326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9211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2917080" y="2257200"/>
            <a:ext cx="2355480" cy="2849400"/>
            <a:chOff x="2917080" y="2257200"/>
            <a:chExt cx="2355480" cy="2849400"/>
          </a:xfrm>
        </p:grpSpPr>
        <p:sp>
          <p:nvSpPr>
            <p:cNvPr id="701" name=""/>
            <p:cNvSpPr/>
            <p:nvPr/>
          </p:nvSpPr>
          <p:spPr>
            <a:xfrm>
              <a:off x="3257640" y="2592360"/>
              <a:ext cx="838080" cy="2514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>
              <a:off x="4095360" y="2592360"/>
              <a:ext cx="837720" cy="2514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57640" y="2409840"/>
              <a:ext cx="1676160" cy="3344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560760" y="3201840"/>
              <a:ext cx="5346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2916720" y="3659040"/>
              <a:ext cx="2355480" cy="137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3943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394311"/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4095720" y="2257200"/>
              <a:ext cx="0" cy="2849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0" y="1420920"/>
            <a:ext cx="767088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Regardons à nouveau la démonstration en faisant apparaître le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ône de frottemen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709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22096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9211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76884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4100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638680" y="4114800"/>
            <a:ext cx="57636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3631320" y="2769120"/>
            <a:ext cx="491040" cy="2310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9211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2952000" y="2255760"/>
            <a:ext cx="2355480" cy="2849760"/>
            <a:chOff x="2952000" y="2255760"/>
            <a:chExt cx="2355480" cy="2849760"/>
          </a:xfrm>
        </p:grpSpPr>
        <p:sp>
          <p:nvSpPr>
            <p:cNvPr id="719" name=""/>
            <p:cNvSpPr/>
            <p:nvPr/>
          </p:nvSpPr>
          <p:spPr>
            <a:xfrm>
              <a:off x="3292560" y="2590920"/>
              <a:ext cx="83808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4130280" y="2590920"/>
              <a:ext cx="83772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292560" y="2408400"/>
              <a:ext cx="1676160" cy="3348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595680" y="3200400"/>
              <a:ext cx="534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2951640" y="3657600"/>
              <a:ext cx="235548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3943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394311"/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4130640" y="2255760"/>
              <a:ext cx="0" cy="2849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0" y="1420920"/>
            <a:ext cx="767088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Regardons à nouveau la démonstration en faisant apparaître le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ône de frottemen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727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9" name=""/>
          <p:cNvSpPr/>
          <p:nvPr/>
        </p:nvSpPr>
        <p:spPr>
          <a:xfrm>
            <a:off x="22096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9211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76884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4100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638680" y="4114800"/>
            <a:ext cx="64800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 flipV="1">
            <a:off x="3584520" y="2782800"/>
            <a:ext cx="571680" cy="2292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9211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2976120" y="2255760"/>
            <a:ext cx="2357280" cy="2849760"/>
            <a:chOff x="2976120" y="2255760"/>
            <a:chExt cx="2357280" cy="2849760"/>
          </a:xfrm>
        </p:grpSpPr>
        <p:sp>
          <p:nvSpPr>
            <p:cNvPr id="737" name=""/>
            <p:cNvSpPr/>
            <p:nvPr/>
          </p:nvSpPr>
          <p:spPr>
            <a:xfrm>
              <a:off x="3316320" y="2590920"/>
              <a:ext cx="83844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4154760" y="2590920"/>
              <a:ext cx="83808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316320" y="2408400"/>
              <a:ext cx="1676520" cy="3348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619800" y="3200400"/>
              <a:ext cx="534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2976120" y="3657600"/>
              <a:ext cx="235728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3943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394311"/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4154760" y="2255760"/>
              <a:ext cx="0" cy="2849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0" y="1420920"/>
            <a:ext cx="767088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Regardons à nouveau la démonstration en faisant apparaître le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ône de frottemen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745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22096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9211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76884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4100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638680" y="4114800"/>
            <a:ext cx="71928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 flipV="1">
            <a:off x="3543120" y="2801520"/>
            <a:ext cx="650880" cy="227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9211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3023640" y="2255760"/>
            <a:ext cx="2357280" cy="2849760"/>
            <a:chOff x="3023640" y="2255760"/>
            <a:chExt cx="2357280" cy="2849760"/>
          </a:xfrm>
        </p:grpSpPr>
        <p:sp>
          <p:nvSpPr>
            <p:cNvPr id="755" name=""/>
            <p:cNvSpPr/>
            <p:nvPr/>
          </p:nvSpPr>
          <p:spPr>
            <a:xfrm>
              <a:off x="3363840" y="2590920"/>
              <a:ext cx="83844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4202280" y="2590920"/>
              <a:ext cx="83808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363840" y="2408400"/>
              <a:ext cx="1676520" cy="3348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667320" y="3200400"/>
              <a:ext cx="534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3023640" y="3657600"/>
              <a:ext cx="235728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3943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394311"/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4202280" y="2255760"/>
              <a:ext cx="0" cy="2849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096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4209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Une action mécanique surfacique du plan 0 sur le so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244600" y="4495680"/>
            <a:ext cx="3353040" cy="609840"/>
            <a:chOff x="2244600" y="4495680"/>
            <a:chExt cx="3353040" cy="609840"/>
          </a:xfrm>
        </p:grpSpPr>
        <p:sp>
          <p:nvSpPr>
            <p:cNvPr id="91" name=""/>
            <p:cNvSpPr/>
            <p:nvPr/>
          </p:nvSpPr>
          <p:spPr>
            <a:xfrm flipV="1">
              <a:off x="224460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239724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254952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270180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285444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00672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15900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31164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346392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361620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376884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92112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407340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422604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437832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453060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468324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483552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498780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514044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529272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544500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559764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397240" y="4495320"/>
            <a:ext cx="3047760" cy="609480"/>
            <a:chOff x="2397240" y="4495320"/>
            <a:chExt cx="3047760" cy="609480"/>
          </a:xfrm>
        </p:grpSpPr>
        <p:sp>
          <p:nvSpPr>
            <p:cNvPr id="115" name=""/>
            <p:cNvSpPr/>
            <p:nvPr/>
          </p:nvSpPr>
          <p:spPr>
            <a:xfrm flipV="1">
              <a:off x="239724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25495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7018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85444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0067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31590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331164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4639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6162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376884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39211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40734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22604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43783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5306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68324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48355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9878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514044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2927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54450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549520" y="4495320"/>
            <a:ext cx="2743200" cy="609480"/>
            <a:chOff x="2549520" y="4495320"/>
            <a:chExt cx="2743200" cy="609480"/>
          </a:xfrm>
        </p:grpSpPr>
        <p:sp>
          <p:nvSpPr>
            <p:cNvPr id="137" name=""/>
            <p:cNvSpPr/>
            <p:nvPr/>
          </p:nvSpPr>
          <p:spPr>
            <a:xfrm flipV="1">
              <a:off x="25495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27018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285444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30067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1590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31164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4639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6162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76884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39211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40734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422604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3783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45306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68324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48355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49878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514044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52927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2701800" y="4495320"/>
            <a:ext cx="2438280" cy="609480"/>
            <a:chOff x="2701800" y="4495320"/>
            <a:chExt cx="2438280" cy="609480"/>
          </a:xfrm>
        </p:grpSpPr>
        <p:sp>
          <p:nvSpPr>
            <p:cNvPr id="157" name=""/>
            <p:cNvSpPr/>
            <p:nvPr/>
          </p:nvSpPr>
          <p:spPr>
            <a:xfrm flipV="1">
              <a:off x="27018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85408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0067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1590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331128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34639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6162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376848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39211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0734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22568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3783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45306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68288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48355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49878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514008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854440" y="4495320"/>
            <a:ext cx="2133360" cy="609480"/>
            <a:chOff x="2854440" y="4495320"/>
            <a:chExt cx="2133360" cy="609480"/>
          </a:xfrm>
        </p:grpSpPr>
        <p:sp>
          <p:nvSpPr>
            <p:cNvPr id="175" name=""/>
            <p:cNvSpPr/>
            <p:nvPr/>
          </p:nvSpPr>
          <p:spPr>
            <a:xfrm flipV="1">
              <a:off x="285444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30067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1590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31164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34639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36162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76884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9211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40734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22604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43783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45306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68324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48355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49878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3006720" y="4495680"/>
            <a:ext cx="1828800" cy="609840"/>
            <a:chOff x="3006720" y="4495680"/>
            <a:chExt cx="1828800" cy="609840"/>
          </a:xfrm>
        </p:grpSpPr>
        <p:sp>
          <p:nvSpPr>
            <p:cNvPr id="191" name=""/>
            <p:cNvSpPr/>
            <p:nvPr/>
          </p:nvSpPr>
          <p:spPr>
            <a:xfrm flipV="1">
              <a:off x="300672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315936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331164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346392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361656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376884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92112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407376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422604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437832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453096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468324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483552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3159000" y="4495320"/>
            <a:ext cx="1523880" cy="609480"/>
            <a:chOff x="3159000" y="4495320"/>
            <a:chExt cx="1523880" cy="609480"/>
          </a:xfrm>
        </p:grpSpPr>
        <p:sp>
          <p:nvSpPr>
            <p:cNvPr id="205" name=""/>
            <p:cNvSpPr/>
            <p:nvPr/>
          </p:nvSpPr>
          <p:spPr>
            <a:xfrm flipV="1">
              <a:off x="31590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331128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39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36162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376848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39211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40734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422568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43783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45306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468288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311640" y="4495320"/>
            <a:ext cx="1218960" cy="609480"/>
            <a:chOff x="3311640" y="4495320"/>
            <a:chExt cx="1218960" cy="609480"/>
          </a:xfrm>
        </p:grpSpPr>
        <p:sp>
          <p:nvSpPr>
            <p:cNvPr id="217" name=""/>
            <p:cNvSpPr/>
            <p:nvPr/>
          </p:nvSpPr>
          <p:spPr>
            <a:xfrm flipV="1">
              <a:off x="331164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34639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36162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6884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39211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40734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422604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43783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45306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463920" y="4495680"/>
            <a:ext cx="914400" cy="609840"/>
            <a:chOff x="3463920" y="4495680"/>
            <a:chExt cx="914400" cy="609840"/>
          </a:xfrm>
        </p:grpSpPr>
        <p:sp>
          <p:nvSpPr>
            <p:cNvPr id="227" name=""/>
            <p:cNvSpPr/>
            <p:nvPr/>
          </p:nvSpPr>
          <p:spPr>
            <a:xfrm flipV="1">
              <a:off x="346392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361620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376884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392112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407340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22604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437832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616200" y="4495320"/>
            <a:ext cx="609840" cy="609480"/>
            <a:chOff x="3616200" y="4495320"/>
            <a:chExt cx="609840" cy="609480"/>
          </a:xfrm>
        </p:grpSpPr>
        <p:sp>
          <p:nvSpPr>
            <p:cNvPr id="235" name=""/>
            <p:cNvSpPr/>
            <p:nvPr/>
          </p:nvSpPr>
          <p:spPr>
            <a:xfrm flipV="1">
              <a:off x="36162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376884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39211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0734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422604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3768840" y="4495680"/>
            <a:ext cx="304560" cy="609840"/>
            <a:chOff x="3768840" y="4495680"/>
            <a:chExt cx="304560" cy="609840"/>
          </a:xfrm>
        </p:grpSpPr>
        <p:sp>
          <p:nvSpPr>
            <p:cNvPr id="241" name=""/>
            <p:cNvSpPr/>
            <p:nvPr/>
          </p:nvSpPr>
          <p:spPr>
            <a:xfrm flipV="1">
              <a:off x="376884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392112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407340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 flipV="1">
            <a:off x="3921120" y="44956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3921120" y="2743200"/>
            <a:ext cx="0" cy="2362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40240" y="5105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4073400" y="2590920"/>
            <a:ext cx="838440" cy="457200"/>
            <a:chOff x="4073400" y="2590920"/>
            <a:chExt cx="838440" cy="457200"/>
          </a:xfrm>
        </p:grpSpPr>
        <p:sp>
          <p:nvSpPr>
            <p:cNvPr id="248" name=""/>
            <p:cNvSpPr/>
            <p:nvPr/>
          </p:nvSpPr>
          <p:spPr>
            <a:xfrm>
              <a:off x="4073400" y="2590920"/>
              <a:ext cx="838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0</a:t>
              </a:r>
              <a:r>
                <a:rPr b="1" lang="en-US" sz="18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</a:t>
              </a: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37480" y="2590920"/>
              <a:ext cx="5162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533520" y="5562720"/>
            <a:ext cx="3733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Et le poids du solide 1 appliqué au point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211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40240" y="380988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4073400" y="5791320"/>
            <a:ext cx="838440" cy="457200"/>
            <a:chOff x="4073400" y="5791320"/>
            <a:chExt cx="838440" cy="457200"/>
          </a:xfrm>
        </p:grpSpPr>
        <p:grpSp>
          <p:nvGrpSpPr>
            <p:cNvPr id="254" name=""/>
            <p:cNvGrpSpPr/>
            <p:nvPr/>
          </p:nvGrpSpPr>
          <p:grpSpPr>
            <a:xfrm>
              <a:off x="4073400" y="5791320"/>
              <a:ext cx="838440" cy="457200"/>
              <a:chOff x="4073400" y="5791320"/>
              <a:chExt cx="838440" cy="457200"/>
            </a:xfrm>
          </p:grpSpPr>
          <p:sp>
            <p:nvSpPr>
              <p:cNvPr id="255" name=""/>
              <p:cNvSpPr/>
              <p:nvPr/>
            </p:nvSpPr>
            <p:spPr>
              <a:xfrm>
                <a:off x="4073400" y="5791320"/>
                <a:ext cx="8384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33cc"/>
                    </a:solidFill>
                    <a:latin typeface="Comic Sans MS"/>
                  </a:rPr>
                  <a:t>P</a:t>
                </a:r>
                <a:r>
                  <a:rPr b="1" lang="en-US" sz="2000" spc="-1" strike="noStrike">
                    <a:solidFill>
                      <a:srgbClr val="3333cc"/>
                    </a:solidFill>
                    <a:latin typeface="Comic Sans M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138560" y="5791320"/>
                <a:ext cx="5158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4073400" y="5791320"/>
              <a:ext cx="4572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6172200" y="4038480"/>
            <a:ext cx="2819520" cy="762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Ces deux forces sont égales et oppos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8682120" y="655164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previousslide"/>
          </p:cNvPr>
          <p:cNvSpPr/>
          <p:nvPr/>
        </p:nvSpPr>
        <p:spPr>
          <a:xfrm>
            <a:off x="633240" y="6551640"/>
            <a:ext cx="457200" cy="304920"/>
          </a:xfrm>
          <a:custGeom>
            <a:avLst/>
            <a:gdLst>
              <a:gd name="textAreaLeft" fmla="*/ 60120 w 457200"/>
              <a:gd name="textAreaRight" fmla="*/ 397080 w 457200"/>
              <a:gd name="textAreaTop" fmla="*/ 60120 h 304920"/>
              <a:gd name="textAreaBottom" fmla="*/ 24480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100" y="4275"/>
                </a:lnTo>
                <a:lnTo>
                  <a:pt x="4275" y="4275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100" y="17325"/>
                </a:lnTo>
                <a:lnTo>
                  <a:pt x="28100" y="4275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275" y="17325"/>
                </a:lnTo>
                <a:lnTo>
                  <a:pt x="28100" y="17325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275" y="4275"/>
                </a:lnTo>
                <a:lnTo>
                  <a:pt x="4275" y="17325"/>
                </a:lnTo>
                <a:close/>
              </a:path>
              <a:path fill="darken" w="32375" h="21600">
                <a:moveTo>
                  <a:pt x="11324" y="10800"/>
                </a:moveTo>
                <a:lnTo>
                  <a:pt x="21051" y="5936"/>
                </a:lnTo>
                <a:lnTo>
                  <a:pt x="21051" y="1566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firstslide"/>
          </p:cNvPr>
          <p:cNvSpPr/>
          <p:nvPr/>
        </p:nvSpPr>
        <p:spPr>
          <a:xfrm>
            <a:off x="0" y="6551640"/>
            <a:ext cx="457200" cy="304920"/>
          </a:xfrm>
          <a:custGeom>
            <a:avLst/>
            <a:gdLst>
              <a:gd name="textAreaLeft" fmla="*/ 58680 w 457200"/>
              <a:gd name="textAreaRight" fmla="*/ 398520 w 45720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212" y="4163"/>
                </a:lnTo>
                <a:lnTo>
                  <a:pt x="4163" y="416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212" y="17437"/>
                </a:lnTo>
                <a:lnTo>
                  <a:pt x="28212" y="416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28212" y="1743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  <a:path fill="darken" w="32375" h="21600">
                <a:moveTo>
                  <a:pt x="13717" y="10800"/>
                </a:moveTo>
                <a:lnTo>
                  <a:pt x="21134" y="5853"/>
                </a:lnTo>
                <a:lnTo>
                  <a:pt x="21134" y="15747"/>
                </a:lnTo>
                <a:close/>
              </a:path>
              <a:path fill="darken" w="32375" h="21600">
                <a:moveTo>
                  <a:pt x="11240" y="5853"/>
                </a:moveTo>
                <a:lnTo>
                  <a:pt x="12414" y="5853"/>
                </a:lnTo>
                <a:lnTo>
                  <a:pt x="12414" y="15747"/>
                </a:lnTo>
                <a:lnTo>
                  <a:pt x="11240" y="15747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47920" y="18781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que l’on modélisera par une force au poin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0" y="1420920"/>
            <a:ext cx="767088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Regardons à nouveau la démonstration en faisant apparaître le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ône de frottemen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763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5" name=""/>
          <p:cNvSpPr/>
          <p:nvPr/>
        </p:nvSpPr>
        <p:spPr>
          <a:xfrm>
            <a:off x="22096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9211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76884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4100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38680" y="4114800"/>
            <a:ext cx="79236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 flipV="1">
            <a:off x="3486240" y="2812320"/>
            <a:ext cx="730080" cy="2246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9211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3058560" y="2255760"/>
            <a:ext cx="2357280" cy="2849760"/>
            <a:chOff x="3058560" y="2255760"/>
            <a:chExt cx="2357280" cy="2849760"/>
          </a:xfrm>
        </p:grpSpPr>
        <p:sp>
          <p:nvSpPr>
            <p:cNvPr id="773" name=""/>
            <p:cNvSpPr/>
            <p:nvPr/>
          </p:nvSpPr>
          <p:spPr>
            <a:xfrm>
              <a:off x="3398760" y="2590920"/>
              <a:ext cx="83844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4237200" y="2590920"/>
              <a:ext cx="83808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398760" y="2408400"/>
              <a:ext cx="1676520" cy="3348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02240" y="3200400"/>
              <a:ext cx="534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3058560" y="3657600"/>
              <a:ext cx="235728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3943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394311"/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4237200" y="2255760"/>
              <a:ext cx="0" cy="2849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0" y="1420920"/>
            <a:ext cx="767088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Regardons à nouveau la démonstration en faisant apparaître le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ône de frottemen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781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"/>
          <p:cNvSpPr/>
          <p:nvPr/>
        </p:nvSpPr>
        <p:spPr>
          <a:xfrm>
            <a:off x="236232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07340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92112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562720" y="4114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791320" y="4114800"/>
            <a:ext cx="79200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 flipV="1">
            <a:off x="3645000" y="2812320"/>
            <a:ext cx="730080" cy="2246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07340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3210840" y="2232000"/>
            <a:ext cx="2355480" cy="2849760"/>
            <a:chOff x="3210840" y="2232000"/>
            <a:chExt cx="2355480" cy="2849760"/>
          </a:xfrm>
        </p:grpSpPr>
        <p:sp>
          <p:nvSpPr>
            <p:cNvPr id="791" name=""/>
            <p:cNvSpPr/>
            <p:nvPr/>
          </p:nvSpPr>
          <p:spPr>
            <a:xfrm>
              <a:off x="3551400" y="2567160"/>
              <a:ext cx="83808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4389120" y="2567160"/>
              <a:ext cx="83772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551400" y="2384640"/>
              <a:ext cx="1676160" cy="3348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854520" y="3176640"/>
              <a:ext cx="534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3210480" y="3633840"/>
              <a:ext cx="235548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3943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394311"/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4389480" y="2232000"/>
              <a:ext cx="0" cy="2849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0" y="1420920"/>
            <a:ext cx="767088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Regardons à nouveau la démonstration en faisant apparaître le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ône de frottemen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799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251460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22604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07340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715000" y="4114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943600" y="4114800"/>
            <a:ext cx="79200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 flipV="1">
            <a:off x="3797280" y="2801160"/>
            <a:ext cx="730080" cy="2246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22604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3363480" y="2219040"/>
            <a:ext cx="2357280" cy="2849400"/>
            <a:chOff x="3363480" y="2219040"/>
            <a:chExt cx="2357280" cy="2849400"/>
          </a:xfrm>
        </p:grpSpPr>
        <p:sp>
          <p:nvSpPr>
            <p:cNvPr id="809" name=""/>
            <p:cNvSpPr/>
            <p:nvPr/>
          </p:nvSpPr>
          <p:spPr>
            <a:xfrm>
              <a:off x="3703680" y="2554200"/>
              <a:ext cx="838440" cy="2514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4542120" y="2554200"/>
              <a:ext cx="838080" cy="2514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703680" y="2371680"/>
              <a:ext cx="1676520" cy="3344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007160" y="3163680"/>
              <a:ext cx="534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3363480" y="3620880"/>
              <a:ext cx="2357280" cy="137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3943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394311"/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4542120" y="2219040"/>
              <a:ext cx="0" cy="2849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0" y="1420920"/>
            <a:ext cx="767088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Regardons à nouveau la démonstration en faisant apparaître le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ône de frottemen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817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9" name=""/>
          <p:cNvSpPr/>
          <p:nvPr/>
        </p:nvSpPr>
        <p:spPr>
          <a:xfrm>
            <a:off x="26668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3783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22604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8672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095880" y="4114800"/>
            <a:ext cx="79236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 flipV="1">
            <a:off x="3944880" y="2801160"/>
            <a:ext cx="730080" cy="2246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3783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3517200" y="2219040"/>
            <a:ext cx="2355480" cy="2849400"/>
            <a:chOff x="3517200" y="2219040"/>
            <a:chExt cx="2355480" cy="2849400"/>
          </a:xfrm>
        </p:grpSpPr>
        <p:sp>
          <p:nvSpPr>
            <p:cNvPr id="827" name=""/>
            <p:cNvSpPr/>
            <p:nvPr/>
          </p:nvSpPr>
          <p:spPr>
            <a:xfrm>
              <a:off x="3857760" y="2554200"/>
              <a:ext cx="838080" cy="2514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4695480" y="2554200"/>
              <a:ext cx="837720" cy="2514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857760" y="2371680"/>
              <a:ext cx="1676160" cy="3344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160880" y="3163680"/>
              <a:ext cx="5346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3516840" y="3620880"/>
              <a:ext cx="2355480" cy="137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3943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394311"/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4695840" y="2219040"/>
              <a:ext cx="0" cy="2849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>
            <a:off x="0" y="1420920"/>
            <a:ext cx="767088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Regardons à nouveau la démonstration en faisant apparaître le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ône de frottemen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835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7" name=""/>
          <p:cNvSpPr/>
          <p:nvPr/>
        </p:nvSpPr>
        <p:spPr>
          <a:xfrm>
            <a:off x="281952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53060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37832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019920" y="4114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248520" y="4114800"/>
            <a:ext cx="79200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 flipV="1">
            <a:off x="4102200" y="2813760"/>
            <a:ext cx="730080" cy="2246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53060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3669840" y="2219040"/>
            <a:ext cx="2357280" cy="2849400"/>
            <a:chOff x="3669840" y="2219040"/>
            <a:chExt cx="2357280" cy="2849400"/>
          </a:xfrm>
        </p:grpSpPr>
        <p:sp>
          <p:nvSpPr>
            <p:cNvPr id="845" name=""/>
            <p:cNvSpPr/>
            <p:nvPr/>
          </p:nvSpPr>
          <p:spPr>
            <a:xfrm>
              <a:off x="4010040" y="2554200"/>
              <a:ext cx="838440" cy="2514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4848480" y="2554200"/>
              <a:ext cx="838080" cy="2514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010040" y="2371680"/>
              <a:ext cx="1676520" cy="3344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313520" y="3163680"/>
              <a:ext cx="534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3669840" y="3620880"/>
              <a:ext cx="2357280" cy="137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3943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394311"/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4848480" y="2219040"/>
              <a:ext cx="0" cy="2849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0" y="1420920"/>
            <a:ext cx="767088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Regardons à nouveau la démonstration en faisant apparaître le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ône de frottemen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853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"/>
          <p:cNvSpPr/>
          <p:nvPr/>
        </p:nvSpPr>
        <p:spPr>
          <a:xfrm>
            <a:off x="297180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68324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53060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172200" y="4114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400800" y="4114800"/>
            <a:ext cx="79200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 flipV="1">
            <a:off x="4257720" y="2817000"/>
            <a:ext cx="730080" cy="2246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68324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3822120" y="2232000"/>
            <a:ext cx="2357280" cy="2849760"/>
            <a:chOff x="3822120" y="2232000"/>
            <a:chExt cx="2357280" cy="2849760"/>
          </a:xfrm>
        </p:grpSpPr>
        <p:sp>
          <p:nvSpPr>
            <p:cNvPr id="863" name=""/>
            <p:cNvSpPr/>
            <p:nvPr/>
          </p:nvSpPr>
          <p:spPr>
            <a:xfrm>
              <a:off x="4162320" y="2567160"/>
              <a:ext cx="83844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5000760" y="2567160"/>
              <a:ext cx="83808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162320" y="2384640"/>
              <a:ext cx="1676520" cy="3348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465800" y="3176640"/>
              <a:ext cx="534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3822120" y="3633840"/>
              <a:ext cx="235728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3943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394311"/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5000760" y="2232000"/>
              <a:ext cx="0" cy="2849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0" y="1420920"/>
            <a:ext cx="767088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Regardons à nouveau la démonstration en faisant apparaître le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ône de frottemen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871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3" name=""/>
          <p:cNvSpPr/>
          <p:nvPr/>
        </p:nvSpPr>
        <p:spPr>
          <a:xfrm>
            <a:off x="31240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8355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68324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3244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553080" y="4114800"/>
            <a:ext cx="79236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 flipV="1">
            <a:off x="4407120" y="2812320"/>
            <a:ext cx="730080" cy="2246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8355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3976200" y="2232000"/>
            <a:ext cx="2357280" cy="2849760"/>
            <a:chOff x="3976200" y="2232000"/>
            <a:chExt cx="2357280" cy="2849760"/>
          </a:xfrm>
        </p:grpSpPr>
        <p:sp>
          <p:nvSpPr>
            <p:cNvPr id="881" name=""/>
            <p:cNvSpPr/>
            <p:nvPr/>
          </p:nvSpPr>
          <p:spPr>
            <a:xfrm>
              <a:off x="4316400" y="2567160"/>
              <a:ext cx="83844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5154840" y="2567160"/>
              <a:ext cx="83808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316400" y="2384640"/>
              <a:ext cx="1676520" cy="3348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619880" y="3176640"/>
              <a:ext cx="534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3976200" y="3633840"/>
              <a:ext cx="235728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3943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394311"/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5154840" y="2232000"/>
              <a:ext cx="0" cy="2849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/>
          <p:nvPr/>
        </p:nvSpPr>
        <p:spPr>
          <a:xfrm>
            <a:off x="0" y="1420920"/>
            <a:ext cx="767088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Regardons à nouveau la démonstration en faisant apparaître le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ône de frottemen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889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327672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98780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83552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477120" y="4114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705720" y="4114800"/>
            <a:ext cx="79200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H="1" flipV="1">
            <a:off x="4562640" y="2805840"/>
            <a:ext cx="730080" cy="2246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98780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>
            <a:hlinkClick r:id="" action="ppaction://hlinkshowjump?jump=nextslide"/>
          </p:cNvPr>
          <p:cNvSpPr/>
          <p:nvPr/>
        </p:nvSpPr>
        <p:spPr>
          <a:xfrm>
            <a:off x="8682120" y="655164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>
            <a:hlinkClick r:id="rId3" action="ppaction://hlinksldjump"/>
          </p:cNvPr>
          <p:cNvSpPr/>
          <p:nvPr/>
        </p:nvSpPr>
        <p:spPr>
          <a:xfrm>
            <a:off x="633240" y="6551640"/>
            <a:ext cx="457200" cy="304920"/>
          </a:xfrm>
          <a:custGeom>
            <a:avLst/>
            <a:gdLst>
              <a:gd name="textAreaLeft" fmla="*/ 60120 w 457200"/>
              <a:gd name="textAreaRight" fmla="*/ 397080 w 457200"/>
              <a:gd name="textAreaTop" fmla="*/ 60120 h 304920"/>
              <a:gd name="textAreaBottom" fmla="*/ 24480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100" y="4275"/>
                </a:lnTo>
                <a:lnTo>
                  <a:pt x="4275" y="4275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100" y="17325"/>
                </a:lnTo>
                <a:lnTo>
                  <a:pt x="28100" y="4275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275" y="17325"/>
                </a:lnTo>
                <a:lnTo>
                  <a:pt x="28100" y="17325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275" y="4275"/>
                </a:lnTo>
                <a:lnTo>
                  <a:pt x="4275" y="17325"/>
                </a:lnTo>
                <a:close/>
              </a:path>
              <a:path fill="darken" w="32375" h="21600">
                <a:moveTo>
                  <a:pt x="11324" y="10800"/>
                </a:moveTo>
                <a:lnTo>
                  <a:pt x="21051" y="5936"/>
                </a:lnTo>
                <a:lnTo>
                  <a:pt x="21051" y="1566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>
            <a:hlinkClick r:id="" action="ppaction://hlinkshowjump?jump=firstslide"/>
          </p:cNvPr>
          <p:cNvSpPr/>
          <p:nvPr/>
        </p:nvSpPr>
        <p:spPr>
          <a:xfrm>
            <a:off x="0" y="6551640"/>
            <a:ext cx="457200" cy="304920"/>
          </a:xfrm>
          <a:custGeom>
            <a:avLst/>
            <a:gdLst>
              <a:gd name="textAreaLeft" fmla="*/ 58680 w 457200"/>
              <a:gd name="textAreaRight" fmla="*/ 398520 w 45720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212" y="4163"/>
                </a:lnTo>
                <a:lnTo>
                  <a:pt x="4163" y="416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212" y="17437"/>
                </a:lnTo>
                <a:lnTo>
                  <a:pt x="28212" y="416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28212" y="1743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  <a:path fill="darken" w="32375" h="21600">
                <a:moveTo>
                  <a:pt x="13717" y="10800"/>
                </a:moveTo>
                <a:lnTo>
                  <a:pt x="21134" y="5853"/>
                </a:lnTo>
                <a:lnTo>
                  <a:pt x="21134" y="15747"/>
                </a:lnTo>
                <a:close/>
              </a:path>
              <a:path fill="darken" w="32375" h="21600">
                <a:moveTo>
                  <a:pt x="11240" y="5853"/>
                </a:moveTo>
                <a:lnTo>
                  <a:pt x="12414" y="5853"/>
                </a:lnTo>
                <a:lnTo>
                  <a:pt x="12414" y="15747"/>
                </a:lnTo>
                <a:lnTo>
                  <a:pt x="11240" y="15747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4128480" y="2219040"/>
            <a:ext cx="2357280" cy="2849400"/>
            <a:chOff x="4128480" y="2219040"/>
            <a:chExt cx="2357280" cy="2849400"/>
          </a:xfrm>
        </p:grpSpPr>
        <p:sp>
          <p:nvSpPr>
            <p:cNvPr id="902" name=""/>
            <p:cNvSpPr/>
            <p:nvPr/>
          </p:nvSpPr>
          <p:spPr>
            <a:xfrm>
              <a:off x="4468680" y="2554200"/>
              <a:ext cx="838440" cy="2514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5307120" y="2554200"/>
              <a:ext cx="838080" cy="2514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468680" y="2371680"/>
              <a:ext cx="1676520" cy="3344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772160" y="3163680"/>
              <a:ext cx="534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4128480" y="3620880"/>
              <a:ext cx="2357280" cy="137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3943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394311"/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5307120" y="2219040"/>
              <a:ext cx="0" cy="2849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n peut remarquer qu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0" y="1878120"/>
            <a:ext cx="86821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La force en A est à l’intérieur du cône de frottement quand il y a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adhérence 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entre 0 et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2374920" y="2449080"/>
            <a:ext cx="5638680" cy="4172400"/>
            <a:chOff x="2374920" y="2449080"/>
            <a:chExt cx="5638680" cy="4172400"/>
          </a:xfrm>
        </p:grpSpPr>
        <p:grpSp>
          <p:nvGrpSpPr>
            <p:cNvPr id="911" name=""/>
            <p:cNvGrpSpPr/>
            <p:nvPr/>
          </p:nvGrpSpPr>
          <p:grpSpPr>
            <a:xfrm>
              <a:off x="2374920" y="5298840"/>
              <a:ext cx="5638680" cy="609480"/>
              <a:chOff x="2374920" y="5298840"/>
              <a:chExt cx="5638680" cy="609480"/>
            </a:xfrm>
          </p:grpSpPr>
          <p:sp>
            <p:nvSpPr>
              <p:cNvPr id="912" name=""/>
              <p:cNvSpPr/>
              <p:nvPr/>
            </p:nvSpPr>
            <p:spPr>
              <a:xfrm>
                <a:off x="2374920" y="5298840"/>
                <a:ext cx="5638680" cy="609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2374920" y="5298840"/>
                <a:ext cx="56386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4" name=""/>
            <p:cNvSpPr/>
            <p:nvPr/>
          </p:nvSpPr>
          <p:spPr>
            <a:xfrm>
              <a:off x="3441600" y="3394080"/>
              <a:ext cx="3428640" cy="190476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152680" y="4232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000400" y="43084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642000" y="4308480"/>
              <a:ext cx="38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870600" y="4308480"/>
              <a:ext cx="3600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 flipV="1">
              <a:off x="5005440" y="2943000"/>
              <a:ext cx="246960" cy="2349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152680" y="4308480"/>
              <a:ext cx="0" cy="23130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1" name=""/>
            <p:cNvGrpSpPr/>
            <p:nvPr/>
          </p:nvGrpSpPr>
          <p:grpSpPr>
            <a:xfrm>
              <a:off x="4078800" y="2449080"/>
              <a:ext cx="2355480" cy="2849400"/>
              <a:chOff x="4078800" y="2449080"/>
              <a:chExt cx="2355480" cy="2849400"/>
            </a:xfrm>
          </p:grpSpPr>
          <p:sp>
            <p:nvSpPr>
              <p:cNvPr id="922" name=""/>
              <p:cNvSpPr/>
              <p:nvPr/>
            </p:nvSpPr>
            <p:spPr>
              <a:xfrm>
                <a:off x="4419360" y="2784240"/>
                <a:ext cx="838080" cy="2514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H="1">
                <a:off x="5257080" y="2784240"/>
                <a:ext cx="837720" cy="2514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4419360" y="2601720"/>
                <a:ext cx="1676160" cy="33444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4722480" y="3393720"/>
                <a:ext cx="5346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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H="1">
                <a:off x="4078440" y="3850920"/>
                <a:ext cx="2355480" cy="1370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3943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394311"/>
                  </a:path>
                </a:pathLst>
              </a:custGeom>
              <a:noFill/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5257440" y="2449080"/>
                <a:ext cx="0" cy="28494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8" name="">
            <a:hlinkClick r:id="" action="ppaction://hlinkshowjump?jump=nextslide"/>
          </p:cNvPr>
          <p:cNvSpPr/>
          <p:nvPr/>
        </p:nvSpPr>
        <p:spPr>
          <a:xfrm>
            <a:off x="8682120" y="655164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>
            <a:hlinkClick r:id="" action="ppaction://hlinkshowjump?jump=previousslide"/>
          </p:cNvPr>
          <p:cNvSpPr/>
          <p:nvPr/>
        </p:nvSpPr>
        <p:spPr>
          <a:xfrm>
            <a:off x="633240" y="6551640"/>
            <a:ext cx="457200" cy="304920"/>
          </a:xfrm>
          <a:custGeom>
            <a:avLst/>
            <a:gdLst>
              <a:gd name="textAreaLeft" fmla="*/ 60120 w 457200"/>
              <a:gd name="textAreaRight" fmla="*/ 397080 w 457200"/>
              <a:gd name="textAreaTop" fmla="*/ 60120 h 304920"/>
              <a:gd name="textAreaBottom" fmla="*/ 24480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100" y="4275"/>
                </a:lnTo>
                <a:lnTo>
                  <a:pt x="4275" y="4275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100" y="17325"/>
                </a:lnTo>
                <a:lnTo>
                  <a:pt x="28100" y="4275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275" y="17325"/>
                </a:lnTo>
                <a:lnTo>
                  <a:pt x="28100" y="17325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275" y="4275"/>
                </a:lnTo>
                <a:lnTo>
                  <a:pt x="4275" y="17325"/>
                </a:lnTo>
                <a:close/>
              </a:path>
              <a:path fill="darken" w="32375" h="21600">
                <a:moveTo>
                  <a:pt x="11324" y="10800"/>
                </a:moveTo>
                <a:lnTo>
                  <a:pt x="21051" y="5936"/>
                </a:lnTo>
                <a:lnTo>
                  <a:pt x="21051" y="1566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>
            <a:hlinkClick r:id="" action="ppaction://hlinkshowjump?jump=firstslide"/>
          </p:cNvPr>
          <p:cNvSpPr/>
          <p:nvPr/>
        </p:nvSpPr>
        <p:spPr>
          <a:xfrm>
            <a:off x="0" y="6551640"/>
            <a:ext cx="457200" cy="304920"/>
          </a:xfrm>
          <a:custGeom>
            <a:avLst/>
            <a:gdLst>
              <a:gd name="textAreaLeft" fmla="*/ 58680 w 457200"/>
              <a:gd name="textAreaRight" fmla="*/ 398520 w 45720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212" y="4163"/>
                </a:lnTo>
                <a:lnTo>
                  <a:pt x="4163" y="416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212" y="17437"/>
                </a:lnTo>
                <a:lnTo>
                  <a:pt x="28212" y="416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28212" y="1743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  <a:path fill="darken" w="32375" h="21600">
                <a:moveTo>
                  <a:pt x="13717" y="10800"/>
                </a:moveTo>
                <a:lnTo>
                  <a:pt x="21134" y="5853"/>
                </a:lnTo>
                <a:lnTo>
                  <a:pt x="21134" y="15747"/>
                </a:lnTo>
                <a:close/>
              </a:path>
              <a:path fill="darken" w="32375" h="21600">
                <a:moveTo>
                  <a:pt x="11240" y="5853"/>
                </a:moveTo>
                <a:lnTo>
                  <a:pt x="12414" y="5853"/>
                </a:lnTo>
                <a:lnTo>
                  <a:pt x="12414" y="15747"/>
                </a:lnTo>
                <a:lnTo>
                  <a:pt x="11240" y="15747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76320" y="2549520"/>
            <a:ext cx="1766880" cy="1467000"/>
            <a:chOff x="76320" y="2549520"/>
            <a:chExt cx="1766880" cy="1467000"/>
          </a:xfrm>
        </p:grpSpPr>
        <p:sp>
          <p:nvSpPr>
            <p:cNvPr id="932" name=""/>
            <p:cNvSpPr/>
            <p:nvPr/>
          </p:nvSpPr>
          <p:spPr>
            <a:xfrm>
              <a:off x="130320" y="2549520"/>
              <a:ext cx="1239840" cy="628560"/>
            </a:xfrm>
            <a:prstGeom prst="downArrow">
              <a:avLst>
                <a:gd name="adj1" fmla="val 61583"/>
                <a:gd name="adj2" fmla="val 3156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6320" y="3191040"/>
              <a:ext cx="1766880" cy="825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s de mouv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n peut remarquer qu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0" y="1878120"/>
            <a:ext cx="86821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La force en A est sur le cône de frottement à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l’équilibre strict 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entre 0 et 1 (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limite du glissemen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1131840" y="2525400"/>
            <a:ext cx="5638680" cy="4172400"/>
            <a:chOff x="1131840" y="2525400"/>
            <a:chExt cx="5638680" cy="4172400"/>
          </a:xfrm>
        </p:grpSpPr>
        <p:grpSp>
          <p:nvGrpSpPr>
            <p:cNvPr id="937" name=""/>
            <p:cNvGrpSpPr/>
            <p:nvPr/>
          </p:nvGrpSpPr>
          <p:grpSpPr>
            <a:xfrm>
              <a:off x="1131840" y="5375160"/>
              <a:ext cx="5638680" cy="609480"/>
              <a:chOff x="1131840" y="5375160"/>
              <a:chExt cx="5638680" cy="609480"/>
            </a:xfrm>
          </p:grpSpPr>
          <p:sp>
            <p:nvSpPr>
              <p:cNvPr id="938" name=""/>
              <p:cNvSpPr/>
              <p:nvPr/>
            </p:nvSpPr>
            <p:spPr>
              <a:xfrm>
                <a:off x="1131840" y="5375160"/>
                <a:ext cx="5638680" cy="609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1131840" y="5375160"/>
                <a:ext cx="56386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0" name=""/>
            <p:cNvSpPr/>
            <p:nvPr/>
          </p:nvSpPr>
          <p:spPr>
            <a:xfrm>
              <a:off x="2198520" y="3470400"/>
              <a:ext cx="3429000" cy="190476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909960" y="4308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757680" y="4384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398920" y="43848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627520" y="4384800"/>
              <a:ext cx="79236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 flipV="1">
              <a:off x="3475080" y="3081960"/>
              <a:ext cx="730080" cy="2246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909960" y="4384800"/>
              <a:ext cx="0" cy="23130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7" name=""/>
            <p:cNvGrpSpPr/>
            <p:nvPr/>
          </p:nvGrpSpPr>
          <p:grpSpPr>
            <a:xfrm>
              <a:off x="3047400" y="2525400"/>
              <a:ext cx="2357280" cy="2849400"/>
              <a:chOff x="3047400" y="2525400"/>
              <a:chExt cx="2357280" cy="2849400"/>
            </a:xfrm>
          </p:grpSpPr>
          <p:sp>
            <p:nvSpPr>
              <p:cNvPr id="948" name=""/>
              <p:cNvSpPr/>
              <p:nvPr/>
            </p:nvSpPr>
            <p:spPr>
              <a:xfrm>
                <a:off x="3387600" y="2860560"/>
                <a:ext cx="838440" cy="2514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H="1">
                <a:off x="4226040" y="2860560"/>
                <a:ext cx="838080" cy="2514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387600" y="2678040"/>
                <a:ext cx="1676520" cy="33444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691080" y="3470040"/>
                <a:ext cx="5349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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H="1">
                <a:off x="3047400" y="3927240"/>
                <a:ext cx="2357280" cy="1370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3943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394311"/>
                  </a:path>
                </a:pathLst>
              </a:custGeom>
              <a:noFill/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V="1">
                <a:off x="4226040" y="2525400"/>
                <a:ext cx="0" cy="28494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4" name="">
            <a:hlinkClick r:id="" action="ppaction://hlinkshowjump?jump=nextslide"/>
          </p:cNvPr>
          <p:cNvSpPr/>
          <p:nvPr/>
        </p:nvSpPr>
        <p:spPr>
          <a:xfrm>
            <a:off x="8682120" y="655164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>
            <a:hlinkClick r:id="" action="ppaction://hlinkshowjump?jump=previousslide"/>
          </p:cNvPr>
          <p:cNvSpPr/>
          <p:nvPr/>
        </p:nvSpPr>
        <p:spPr>
          <a:xfrm>
            <a:off x="633240" y="6551640"/>
            <a:ext cx="457200" cy="304920"/>
          </a:xfrm>
          <a:custGeom>
            <a:avLst/>
            <a:gdLst>
              <a:gd name="textAreaLeft" fmla="*/ 60120 w 457200"/>
              <a:gd name="textAreaRight" fmla="*/ 397080 w 457200"/>
              <a:gd name="textAreaTop" fmla="*/ 60120 h 304920"/>
              <a:gd name="textAreaBottom" fmla="*/ 24480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100" y="4275"/>
                </a:lnTo>
                <a:lnTo>
                  <a:pt x="4275" y="4275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100" y="17325"/>
                </a:lnTo>
                <a:lnTo>
                  <a:pt x="28100" y="4275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275" y="17325"/>
                </a:lnTo>
                <a:lnTo>
                  <a:pt x="28100" y="17325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275" y="4275"/>
                </a:lnTo>
                <a:lnTo>
                  <a:pt x="4275" y="17325"/>
                </a:lnTo>
                <a:close/>
              </a:path>
              <a:path fill="darken" w="32375" h="21600">
                <a:moveTo>
                  <a:pt x="11324" y="10800"/>
                </a:moveTo>
                <a:lnTo>
                  <a:pt x="21051" y="5936"/>
                </a:lnTo>
                <a:lnTo>
                  <a:pt x="21051" y="1566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>
            <a:hlinkClick r:id="" action="ppaction://hlinkshowjump?jump=firstslide"/>
          </p:cNvPr>
          <p:cNvSpPr/>
          <p:nvPr/>
        </p:nvSpPr>
        <p:spPr>
          <a:xfrm>
            <a:off x="0" y="6551640"/>
            <a:ext cx="457200" cy="304920"/>
          </a:xfrm>
          <a:custGeom>
            <a:avLst/>
            <a:gdLst>
              <a:gd name="textAreaLeft" fmla="*/ 58680 w 457200"/>
              <a:gd name="textAreaRight" fmla="*/ 398520 w 45720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212" y="4163"/>
                </a:lnTo>
                <a:lnTo>
                  <a:pt x="4163" y="416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212" y="17437"/>
                </a:lnTo>
                <a:lnTo>
                  <a:pt x="28212" y="416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28212" y="1743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  <a:path fill="darken" w="32375" h="21600">
                <a:moveTo>
                  <a:pt x="13717" y="10800"/>
                </a:moveTo>
                <a:lnTo>
                  <a:pt x="21134" y="5853"/>
                </a:lnTo>
                <a:lnTo>
                  <a:pt x="21134" y="15747"/>
                </a:lnTo>
                <a:close/>
              </a:path>
              <a:path fill="darken" w="32375" h="21600">
                <a:moveTo>
                  <a:pt x="11240" y="5853"/>
                </a:moveTo>
                <a:lnTo>
                  <a:pt x="12414" y="5853"/>
                </a:lnTo>
                <a:lnTo>
                  <a:pt x="12414" y="15747"/>
                </a:lnTo>
                <a:lnTo>
                  <a:pt x="11240" y="15747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2096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Supposons que l’on cherche à déplacer le solide 1 en tirant en 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40240" y="5105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40240" y="380988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7099200" y="3581280"/>
            <a:ext cx="581040" cy="457200"/>
            <a:chOff x="7099200" y="3581280"/>
            <a:chExt cx="581040" cy="457200"/>
          </a:xfrm>
        </p:grpSpPr>
        <p:grpSp>
          <p:nvGrpSpPr>
            <p:cNvPr id="268" name=""/>
            <p:cNvGrpSpPr/>
            <p:nvPr/>
          </p:nvGrpSpPr>
          <p:grpSpPr>
            <a:xfrm>
              <a:off x="7099200" y="3581280"/>
              <a:ext cx="581040" cy="457200"/>
              <a:chOff x="7099200" y="3581280"/>
              <a:chExt cx="581040" cy="457200"/>
            </a:xfrm>
          </p:grpSpPr>
          <p:sp>
            <p:nvSpPr>
              <p:cNvPr id="269" name=""/>
              <p:cNvSpPr/>
              <p:nvPr/>
            </p:nvSpPr>
            <p:spPr>
              <a:xfrm>
                <a:off x="7099200" y="3581280"/>
                <a:ext cx="5810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6600"/>
                    </a:solidFill>
                    <a:latin typeface="Comic Sans MS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144200" y="3581280"/>
                <a:ext cx="3574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7099200" y="3581280"/>
              <a:ext cx="31680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>
            <a:hlinkClick r:id="" action="ppaction://hlinkshowjump?jump=nextslide"/>
          </p:cNvPr>
          <p:cNvSpPr/>
          <p:nvPr/>
        </p:nvSpPr>
        <p:spPr>
          <a:xfrm>
            <a:off x="8682120" y="655164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>
            <a:hlinkClick r:id="" action="ppaction://hlinkshowjump?jump=previousslide"/>
          </p:cNvPr>
          <p:cNvSpPr/>
          <p:nvPr/>
        </p:nvSpPr>
        <p:spPr>
          <a:xfrm>
            <a:off x="633240" y="6551640"/>
            <a:ext cx="457200" cy="304920"/>
          </a:xfrm>
          <a:custGeom>
            <a:avLst/>
            <a:gdLst>
              <a:gd name="textAreaLeft" fmla="*/ 60120 w 457200"/>
              <a:gd name="textAreaRight" fmla="*/ 397080 w 457200"/>
              <a:gd name="textAreaTop" fmla="*/ 60120 h 304920"/>
              <a:gd name="textAreaBottom" fmla="*/ 24480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100" y="4275"/>
                </a:lnTo>
                <a:lnTo>
                  <a:pt x="4275" y="4275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100" y="17325"/>
                </a:lnTo>
                <a:lnTo>
                  <a:pt x="28100" y="4275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275" y="17325"/>
                </a:lnTo>
                <a:lnTo>
                  <a:pt x="28100" y="17325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275" y="4275"/>
                </a:lnTo>
                <a:lnTo>
                  <a:pt x="4275" y="17325"/>
                </a:lnTo>
                <a:close/>
              </a:path>
              <a:path fill="darken" w="32375" h="21600">
                <a:moveTo>
                  <a:pt x="11324" y="10800"/>
                </a:moveTo>
                <a:lnTo>
                  <a:pt x="21051" y="5936"/>
                </a:lnTo>
                <a:lnTo>
                  <a:pt x="21051" y="1566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" action="ppaction://hlinkshowjump?jump=firstslide"/>
          </p:cNvPr>
          <p:cNvSpPr/>
          <p:nvPr/>
        </p:nvSpPr>
        <p:spPr>
          <a:xfrm>
            <a:off x="0" y="6551640"/>
            <a:ext cx="457200" cy="304920"/>
          </a:xfrm>
          <a:custGeom>
            <a:avLst/>
            <a:gdLst>
              <a:gd name="textAreaLeft" fmla="*/ 58680 w 457200"/>
              <a:gd name="textAreaRight" fmla="*/ 398520 w 45720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212" y="4163"/>
                </a:lnTo>
                <a:lnTo>
                  <a:pt x="4163" y="416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212" y="17437"/>
                </a:lnTo>
                <a:lnTo>
                  <a:pt x="28212" y="416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28212" y="1743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  <a:path fill="darken" w="32375" h="21600">
                <a:moveTo>
                  <a:pt x="13717" y="10800"/>
                </a:moveTo>
                <a:lnTo>
                  <a:pt x="21134" y="5853"/>
                </a:lnTo>
                <a:lnTo>
                  <a:pt x="21134" y="15747"/>
                </a:lnTo>
                <a:close/>
              </a:path>
              <a:path fill="darken" w="32375" h="21600">
                <a:moveTo>
                  <a:pt x="11240" y="5853"/>
                </a:moveTo>
                <a:lnTo>
                  <a:pt x="12414" y="5853"/>
                </a:lnTo>
                <a:lnTo>
                  <a:pt x="12414" y="15747"/>
                </a:lnTo>
                <a:lnTo>
                  <a:pt x="11240" y="15747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211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6884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2112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913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B=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638680" y="4114800"/>
            <a:ext cx="152424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187812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Quel effort fournir en B pour faire glisser le solide 1 sur le plan 0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n peut remarquer qu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0" y="1878120"/>
            <a:ext cx="86821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La force en A est sur le cône de frottement quand il y a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glissemen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 entre 0 et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1143000" y="2232000"/>
            <a:ext cx="6202440" cy="4195800"/>
            <a:chOff x="1143000" y="2232000"/>
            <a:chExt cx="6202440" cy="4195800"/>
          </a:xfrm>
        </p:grpSpPr>
        <p:grpSp>
          <p:nvGrpSpPr>
            <p:cNvPr id="960" name=""/>
            <p:cNvGrpSpPr/>
            <p:nvPr/>
          </p:nvGrpSpPr>
          <p:grpSpPr>
            <a:xfrm>
              <a:off x="1143000" y="5105520"/>
              <a:ext cx="5638680" cy="609480"/>
              <a:chOff x="1143000" y="5105520"/>
              <a:chExt cx="5638680" cy="609480"/>
            </a:xfrm>
          </p:grpSpPr>
          <p:sp>
            <p:nvSpPr>
              <p:cNvPr id="961" name=""/>
              <p:cNvSpPr/>
              <p:nvPr/>
            </p:nvSpPr>
            <p:spPr>
              <a:xfrm>
                <a:off x="1143000" y="5105520"/>
                <a:ext cx="5638680" cy="609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143000" y="5105520"/>
                <a:ext cx="56386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3" name=""/>
            <p:cNvSpPr/>
            <p:nvPr/>
          </p:nvSpPr>
          <p:spPr>
            <a:xfrm>
              <a:off x="3124080" y="3200400"/>
              <a:ext cx="3429000" cy="190512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835520" y="4038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683240" y="4114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324480" y="41148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553080" y="4114800"/>
              <a:ext cx="79236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 flipV="1">
              <a:off x="4407120" y="2812320"/>
              <a:ext cx="730080" cy="2246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835520" y="4114800"/>
              <a:ext cx="0" cy="23130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0" name=""/>
            <p:cNvGrpSpPr/>
            <p:nvPr/>
          </p:nvGrpSpPr>
          <p:grpSpPr>
            <a:xfrm>
              <a:off x="3976200" y="2232000"/>
              <a:ext cx="2357280" cy="2849760"/>
              <a:chOff x="3976200" y="2232000"/>
              <a:chExt cx="2357280" cy="2849760"/>
            </a:xfrm>
          </p:grpSpPr>
          <p:sp>
            <p:nvSpPr>
              <p:cNvPr id="971" name=""/>
              <p:cNvSpPr/>
              <p:nvPr/>
            </p:nvSpPr>
            <p:spPr>
              <a:xfrm>
                <a:off x="4316400" y="2567160"/>
                <a:ext cx="838440" cy="2514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H="1">
                <a:off x="5154840" y="2567160"/>
                <a:ext cx="838080" cy="2514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4316400" y="2384640"/>
                <a:ext cx="1676520" cy="33480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619880" y="3176640"/>
                <a:ext cx="534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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H="1">
                <a:off x="3976200" y="3633840"/>
                <a:ext cx="2357280" cy="137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3943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394311"/>
                  </a:path>
                </a:pathLst>
              </a:custGeom>
              <a:noFill/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V="1">
                <a:off x="5154840" y="2232000"/>
                <a:ext cx="0" cy="2849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7" name="">
            <a:hlinkClick r:id="" action="ppaction://hlinkshowjump?jump=nextslide"/>
          </p:cNvPr>
          <p:cNvSpPr/>
          <p:nvPr/>
        </p:nvSpPr>
        <p:spPr>
          <a:xfrm>
            <a:off x="8682120" y="655164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>
            <a:hlinkClick r:id="" action="ppaction://hlinkshowjump?jump=previousslide"/>
          </p:cNvPr>
          <p:cNvSpPr/>
          <p:nvPr/>
        </p:nvSpPr>
        <p:spPr>
          <a:xfrm>
            <a:off x="633240" y="6551640"/>
            <a:ext cx="457200" cy="304920"/>
          </a:xfrm>
          <a:custGeom>
            <a:avLst/>
            <a:gdLst>
              <a:gd name="textAreaLeft" fmla="*/ 60120 w 457200"/>
              <a:gd name="textAreaRight" fmla="*/ 397080 w 457200"/>
              <a:gd name="textAreaTop" fmla="*/ 60120 h 304920"/>
              <a:gd name="textAreaBottom" fmla="*/ 24480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100" y="4275"/>
                </a:lnTo>
                <a:lnTo>
                  <a:pt x="4275" y="4275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100" y="17325"/>
                </a:lnTo>
                <a:lnTo>
                  <a:pt x="28100" y="4275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275" y="17325"/>
                </a:lnTo>
                <a:lnTo>
                  <a:pt x="28100" y="17325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275" y="4275"/>
                </a:lnTo>
                <a:lnTo>
                  <a:pt x="4275" y="17325"/>
                </a:lnTo>
                <a:close/>
              </a:path>
              <a:path fill="darken" w="32375" h="21600">
                <a:moveTo>
                  <a:pt x="11324" y="10800"/>
                </a:moveTo>
                <a:lnTo>
                  <a:pt x="21051" y="5936"/>
                </a:lnTo>
                <a:lnTo>
                  <a:pt x="21051" y="1566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>
            <a:hlinkClick r:id="" action="ppaction://hlinkshowjump?jump=firstslide"/>
          </p:cNvPr>
          <p:cNvSpPr/>
          <p:nvPr/>
        </p:nvSpPr>
        <p:spPr>
          <a:xfrm>
            <a:off x="0" y="6551640"/>
            <a:ext cx="457200" cy="304920"/>
          </a:xfrm>
          <a:custGeom>
            <a:avLst/>
            <a:gdLst>
              <a:gd name="textAreaLeft" fmla="*/ 58680 w 457200"/>
              <a:gd name="textAreaRight" fmla="*/ 398520 w 45720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212" y="4163"/>
                </a:lnTo>
                <a:lnTo>
                  <a:pt x="4163" y="416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212" y="17437"/>
                </a:lnTo>
                <a:lnTo>
                  <a:pt x="28212" y="416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28212" y="1743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  <a:path fill="darken" w="32375" h="21600">
                <a:moveTo>
                  <a:pt x="13717" y="10800"/>
                </a:moveTo>
                <a:lnTo>
                  <a:pt x="21134" y="5853"/>
                </a:lnTo>
                <a:lnTo>
                  <a:pt x="21134" y="15747"/>
                </a:lnTo>
                <a:close/>
              </a:path>
              <a:path fill="darken" w="32375" h="21600">
                <a:moveTo>
                  <a:pt x="11240" y="5853"/>
                </a:moveTo>
                <a:lnTo>
                  <a:pt x="12414" y="5853"/>
                </a:lnTo>
                <a:lnTo>
                  <a:pt x="12414" y="15747"/>
                </a:lnTo>
                <a:lnTo>
                  <a:pt x="11240" y="15747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3124080" y="4648320"/>
            <a:ext cx="2514600" cy="457200"/>
            <a:chOff x="3124080" y="4648320"/>
            <a:chExt cx="2514600" cy="457200"/>
          </a:xfrm>
        </p:grpSpPr>
        <p:sp>
          <p:nvSpPr>
            <p:cNvPr id="981" name=""/>
            <p:cNvSpPr/>
            <p:nvPr/>
          </p:nvSpPr>
          <p:spPr>
            <a:xfrm>
              <a:off x="3200040" y="5105520"/>
              <a:ext cx="2438640" cy="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124080" y="4648320"/>
              <a:ext cx="2286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Comic Sans MS"/>
                </a:rPr>
                <a:t>Dé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0" y="2362320"/>
            <a:ext cx="3352680" cy="3200400"/>
            <a:chOff x="0" y="2362320"/>
            <a:chExt cx="3352680" cy="3200400"/>
          </a:xfrm>
        </p:grpSpPr>
        <p:sp>
          <p:nvSpPr>
            <p:cNvPr id="984" name=""/>
            <p:cNvSpPr/>
            <p:nvPr/>
          </p:nvSpPr>
          <p:spPr>
            <a:xfrm>
              <a:off x="0" y="2362320"/>
              <a:ext cx="3352680" cy="3200400"/>
            </a:xfrm>
            <a:prstGeom prst="irregularSeal2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rot="19604400">
              <a:off x="767520" y="3198600"/>
              <a:ext cx="160020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33"/>
                  </a:solidFill>
                  <a:latin typeface="Arial"/>
                </a:rPr>
                <a:t>Ce n’es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33"/>
                  </a:solidFill>
                  <a:latin typeface="Arial"/>
                </a:rPr>
                <a:t>plus de l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33"/>
                  </a:solidFill>
                  <a:latin typeface="Arial"/>
                </a:rPr>
                <a:t>statiq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/>
          <p:nvPr/>
        </p:nvSpPr>
        <p:spPr>
          <a:xfrm>
            <a:off x="2362320" y="128592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33"/>
                </a:solidFill>
                <a:uFillTx/>
                <a:latin typeface="Comic Sans MS"/>
              </a:rPr>
              <a:t>En résumé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06280" y="1941480"/>
            <a:ext cx="89661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Comic Sans MS"/>
              </a:rPr>
              <a:t>- Avant que la valeur limite ne soit atteinte, il y a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adhérence</a:t>
            </a:r>
            <a:r>
              <a:rPr b="1" lang="en-US" sz="1800" spc="-1" strike="noStrike">
                <a:solidFill>
                  <a:srgbClr val="990033"/>
                </a:solidFill>
                <a:latin typeface="Comic Sans MS"/>
              </a:rPr>
              <a:t> entre 0 et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52360" y="4479840"/>
            <a:ext cx="561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- </a:t>
            </a:r>
            <a:r>
              <a:rPr b="1" lang="en-US" sz="2000" spc="-1" strike="noStrike" u="sng">
                <a:solidFill>
                  <a:srgbClr val="990033"/>
                </a:solidFill>
                <a:uFillTx/>
                <a:latin typeface="Comic Sans MS"/>
              </a:rPr>
              <a:t>L’angle d’inclinaison maximum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 de la force en A définit le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facteur de frottemen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 (noté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µ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) entre 0 et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33360" y="6086520"/>
            <a:ext cx="7080120" cy="457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Sens : La force A</a:t>
            </a:r>
            <a:r>
              <a:rPr b="1" lang="en-US" sz="2000" spc="-1" strike="noStrike" baseline="-25000">
                <a:solidFill>
                  <a:srgbClr val="990033"/>
                </a:solidFill>
                <a:latin typeface="Comic Sans MS"/>
              </a:rPr>
              <a:t>0</a:t>
            </a:r>
            <a:r>
              <a:rPr b="1" lang="en-US" sz="2000" spc="-1" strike="noStrike" baseline="-25000">
                <a:solidFill>
                  <a:srgbClr val="990033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 baseline="-25000">
                <a:solidFill>
                  <a:srgbClr val="990033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 ’oppose au glissement 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de 1 /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378400" y="5187960"/>
            <a:ext cx="167652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µ = tan </a:t>
            </a:r>
            <a:r>
              <a:rPr b="1" lang="en-US" sz="2000" spc="-1" strike="noStrike">
                <a:solidFill>
                  <a:srgbClr val="990033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6573240" y="2881080"/>
            <a:ext cx="2357280" cy="2849400"/>
            <a:chOff x="6573240" y="2881080"/>
            <a:chExt cx="2357280" cy="2849400"/>
          </a:xfrm>
        </p:grpSpPr>
        <p:sp>
          <p:nvSpPr>
            <p:cNvPr id="992" name=""/>
            <p:cNvSpPr/>
            <p:nvPr/>
          </p:nvSpPr>
          <p:spPr>
            <a:xfrm>
              <a:off x="6913440" y="3216240"/>
              <a:ext cx="838440" cy="2514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7751880" y="3216240"/>
              <a:ext cx="838080" cy="2514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913440" y="3033720"/>
              <a:ext cx="1676520" cy="3344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216920" y="3825720"/>
              <a:ext cx="534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6573240" y="4282920"/>
              <a:ext cx="2357280" cy="137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3943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394311"/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7751880" y="2881080"/>
              <a:ext cx="0" cy="2849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8" name=""/>
          <p:cNvSpPr/>
          <p:nvPr/>
        </p:nvSpPr>
        <p:spPr>
          <a:xfrm flipH="1" flipV="1">
            <a:off x="7568640" y="3625920"/>
            <a:ext cx="190080" cy="2071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16000" y="2293920"/>
            <a:ext cx="89280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Comic Sans MS"/>
              </a:rPr>
              <a:t>- Lorsque la force en A est sur le cône de frottement il y a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l’équilibre strict </a:t>
            </a:r>
            <a:r>
              <a:rPr b="1" lang="en-US" sz="1800" spc="-1" strike="noStrike">
                <a:solidFill>
                  <a:srgbClr val="990033"/>
                </a:solidFill>
                <a:latin typeface="Comic Sans MS"/>
              </a:rPr>
              <a:t>entre 0 et 1 (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limite du glissement</a:t>
            </a:r>
            <a:r>
              <a:rPr b="1" lang="en-US" sz="1800" spc="-1" strike="noStrike">
                <a:solidFill>
                  <a:srgbClr val="990033"/>
                </a:solidFill>
                <a:latin typeface="Comic Sans MS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22120" y="3325680"/>
            <a:ext cx="5592960" cy="652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Comic Sans MS"/>
              </a:rPr>
              <a:t>- Ensuite, la force en A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ste</a:t>
            </a:r>
            <a:r>
              <a:rPr b="1" lang="en-US" sz="1800" spc="-1" strike="noStrike">
                <a:solidFill>
                  <a:srgbClr val="990033"/>
                </a:solidFill>
                <a:latin typeface="Comic Sans MS"/>
              </a:rPr>
              <a:t> sur le cône de frottement quand il y a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glissement</a:t>
            </a:r>
            <a:r>
              <a:rPr b="1" lang="en-US" sz="1800" spc="-1" strike="noStrike">
                <a:solidFill>
                  <a:srgbClr val="990033"/>
                </a:solidFill>
                <a:latin typeface="Comic Sans MS"/>
              </a:rPr>
              <a:t> de 0 /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772400" y="66294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 du diapor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283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22096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bservons sur la figure ce qui se pass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211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6884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2112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21120" y="2743200"/>
            <a:ext cx="0" cy="2362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211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294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22096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bservons sur la figure ce qui se pass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211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76884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638680" y="4114800"/>
            <a:ext cx="28728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3870360" y="2743920"/>
            <a:ext cx="82800" cy="236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211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305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22096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bservons sur la figure ce qui se pass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211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76884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100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38680" y="4114800"/>
            <a:ext cx="36036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3773880" y="2749680"/>
            <a:ext cx="246960" cy="2349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211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316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2096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bservons sur la figure ce qui se pass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211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6884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100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4114800"/>
            <a:ext cx="43200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3726360" y="2754720"/>
            <a:ext cx="329040" cy="2339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9211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3T17:08:23Z</dcterms:created>
  <dc:creator>Philippe Jeannerod</dc:creator>
  <dc:description/>
  <dc:language>en-US</dc:language>
  <cp:lastModifiedBy>stephane</cp:lastModifiedBy>
  <dcterms:modified xsi:type="dcterms:W3CDTF">2006-03-30T11:56:23Z</dcterms:modified>
  <cp:revision>46</cp:revision>
  <dc:subject>Solide sur un plan horizontal</dc:subject>
  <dc:title>STATIQUE</dc:title>
</cp:coreProperties>
</file>